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3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32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E867-D325-491A-A71B-2DC798635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F3BE-162D-48FD-A129-1E70542DF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A490-23EF-48AA-BAA2-7119BA0EA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7BAE-F317-423A-A155-1F36E79E9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运行方式之二：命令行方式的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D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顺便对数组，输出，绘图等基本的东西有一个感性的认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常用的符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注释用分号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注意：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下运行命令行的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，需要设置一下用户的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环境变量，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目录（比如：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\Program Files\ITT\IDL71\bin\bin.x86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添加到用户环境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过程、函数、过程文件将在程序导读中详细介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4BF3-F147-4172-9050-59911AA3D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=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,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=3.5d &amp; c=4L &amp; help, a, b,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, a+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=c &amp; help,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=fltarr(2,4) &amp; help,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[0,0]=1L &amp; print,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有多种使用方式，可以用命令行交互输入，可以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从一段简单程序导读中介绍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的命令书写规则，基本数据类型，数组，输入输出，分支判断，循环，函数，过程等基本程序设计的概念，给听众一个基本的感性认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命令的基本格式为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命令动词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,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参数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, …,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参数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][,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关键字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, …,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关键字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如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nt, 300, 600, 900, FORMAT=‘(I3, I6, I9)’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，其中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为命令动词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00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为参数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MAT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为关键字，关键字可有可无，顺序不定，而参数则有一定的顺序，且必须出现。参数有可变长参数和确定个数的参数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lp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等是典型的可变长参数，所谓可变长，即可以写任意多个参数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一个简单的程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ysimplePro.pro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，一行中，分号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;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之后的部分皆为注释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主文件名为过程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ySimplePro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;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一个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程序，以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开头，以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结尾，不区分大小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表示长整形，对于基本类型，赋值时，值和类型一起赋给左边的变量。符号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是语句分隔符，将一行中多条语句分隔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=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&amp; b=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该行读取两个整形值，分别给两个参数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，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MP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是关键字，其作用是使命令行提示符由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"IDL&gt;"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变成该标签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请输入两个数：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a, b, PROMPT="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请输入两个整数：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"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a, b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"b&lt;=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，请重新输入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"  ;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打印输出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的值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ndwh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tArr =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onAr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(b-a)/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dx=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循环遍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i=a, b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注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的逻辑判断，奇数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为真，偶数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为假；非零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o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x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为真；非空字符串为真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gi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tArr[idx]=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dx+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nd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ndf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dstAr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'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目标数组的总和是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',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stAr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从一段简单程序导读中介绍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的命令书写规则，基本数据类型，数组，输入输出，分支判断，循环，函数，过程等基本程序设计的概念，给听众一个基本的感性认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命令的基本格式为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命令动词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,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参数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, …,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参数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][,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关键字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, …,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关键字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如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nt, 300, 600, 900, FORMAT=‘(I3, I6, I9)’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，其中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为命令动词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00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为参数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MAT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为关键字，关键字可有可无，顺序不定，而参数则有一定的顺序，且必须出现。参数有可变长参数和确定个数的参数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lp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等是典型的可变长参数，所谓可变长，即可以写任意多个参数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一个简单的程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ysimplePro.pro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，一行中，分号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;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之后的部分皆为注释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主文件名为过程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ySimplePro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;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一个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程序，以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开头，以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结尾，不区分大小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表示长整形，对于基本类型，赋值时，值和类型一起赋给左边的变量。符号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是语句分隔符，将一行中多条语句分隔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=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&amp; b=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该行读取两个整形值，分别给两个参数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，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MP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是关键字，其作用是使命令行提示符由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"IDL&gt;"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变成该标签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请输入两个数：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a, b, PROMPT="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请输入两个整数：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"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a, b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"b&lt;=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，请重新输入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"  ;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打印输出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的值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ndwh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tArr =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onAr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(b-a)/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dx=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循环遍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i=a, b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注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的逻辑判断，奇数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为真，偶数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为假；非零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o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x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为真；非空字符串为真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gi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tArr[idx]=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dx+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nd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ndf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dstAr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'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目标数组的总和是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',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stAr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x, Y=mykeywo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x,mykeywo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"this is proName2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nc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nc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x, y, 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"this is a function, their parameters are: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x,y,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[x,y,z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x, Y=myKeyword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"call proName1 first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x, Y=myKeywo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"this is pro3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x, Y=mykeywo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x,mykeywo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"this is proName2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nc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nc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x, y, 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"this is a function, their parameters are: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x,y,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[x,y,z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x, Y=myKeyword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"call proName1 first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x, Y=myKeywo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"this is pro3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过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程序导读与语法解析，向听众展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操作方法，基本语法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包括数据与变量，数组，循环，分支，判断，过程，函数），输入输出，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琐碎的语法再简单介绍一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Array = fltArr(3,2) &amp; print, my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Array = fltArr(3,2,/NOZERO) &amp; print, my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Array = findgen(3,2)  &amp; print, my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Array = replicate(!PI, 3, 2) &amp; print, my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Array = indgen(3,2, /Long) &amp; print, my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Array = findgen(3,2)  &amp; print, my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Array = replicate(!PI, 3, 2) &amp; print, my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Array = make_array(3, 2, /float)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一个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所有值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二维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—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流输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u/readf—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输入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formated binary 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本），从指定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u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中读取数据到变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输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u/printf—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输出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formated binary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本），将变量值输出到指定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u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AF37-EB05-4603-B6ED-8BE1DD037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着重讲解前面几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灰色部分从略，使用时看帮助即可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fac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一些关键字及其效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de_sur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一些关键字及其相应的效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image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Name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EPATH('rose.jpg', SUBDIRECTORY = ['examples', 'data'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t,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ize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ZE(image, /dimensions);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若不指定，输出维度、各维度大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x[[, y], z]]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、类型、元素数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t, image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_IMAGE(fileName);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读取图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ndow, 0, Xsize = imageSize[1]*2, Ysize = imageSize[2];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显示窗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v, image, 0, true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v, smooth(image, [1,5,5]), 1, true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Image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vrd(true=1);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读取直接图形窗口显示的内容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Imag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v, newImage, true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rite_image, "E:\IDLWrokspace71\testData\newImage.jpg", 'JPEG', new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1ADC-6FDE-44EE-9151-93F4F9ED9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怎么运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PID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呢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运行程序之前先要做一点准备工作：可用节点的节点名和在该节点上可开启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pi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进程的最大数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首先要在自己的目录下准备两个文本文件，一个用来记录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PID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用的节点的节点名，另一个记录着可用节点的节点名和在该节点上可开启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pi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进程的最大数量，这个数通常和该节点拥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核的数量相等，但也可以小于或大于这个数，只是这样运行起来效率可能没那么高。比如本来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核，但是你指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pi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进程，可能就有浪费，或者你指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进程，可能就有一半进程需要跟另一半进程串行执行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比如我在自己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目录下建两个文本文件，分别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pd.hos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fi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里边的记录如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然后建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pid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运行环境，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pdboo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启动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选项指定使用的节点数，一共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指定记录节点的文件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指定使用的安全协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样就可以运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pid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程序，运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pid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程序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mpid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命令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achinefi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选项指定刚才我们建立的那个记录着节点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tNam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该节点上可开启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pi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进程的最大数量，该数量不能超过前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fi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，冒号后面指定的数量之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FCAA-1FC6-4BC5-B955-F13F62031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563E-D572-4E55-8C3E-1A69A2B7F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逻辑判断与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相去甚远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逻辑判断分以下几种情况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字符型，整形和长整形的奇数，判断为真；反之，偶数和零，判断为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非零的浮点型，双精度型和复数类型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包括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loa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uble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，判断为真；反之，零判断为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非空的字符串类型，判断为真； 反之，空的字符串类型判断为假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C002-11D7-4202-9415-3B07B9D18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64B6-9806-4E3E-ACB1-90CF8A2C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A745-DD79-418B-9936-35091CC92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8337-2D69-40FE-982D-56F073FD6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198C-90D6-4DEA-9F39-DA3AC390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6476-1D63-47BE-BE25-AA64F492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45CE-F01C-4607-8B8D-121E6A46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B9F0-156F-4BDD-80FC-7A3503EC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0FC7-0FC3-4D84-8CB3-F0C3DB5D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266C-8E8C-4A54-AD6D-E635B9D6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8F10-139A-4013-830B-6D2E3B56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B3E6-1DCC-4287-8D6E-7853FA8D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1E67-5091-485B-8517-EFFA6B820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xelisvis.com/" TargetMode="Externa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dfanning.com/" TargetMode="External"/><Relationship Id="rId2" Type="http://schemas.openxmlformats.org/officeDocument/2006/relationships/hyperlink" Target="http://www.rlkling.com/" TargetMode="External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http://idlastro.gsfc.nasa.gov/homepage.html" TargetMode="External"/><Relationship Id="rId2" Type="http://schemas.openxmlformats.org/officeDocument/2006/relationships/hyperlink" Target="http://www.lmsal.com/solarsoft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76">
                  <a:alpha val="25098"/>
                </a:srgbClr>
              </a:gs>
              <a:gs pos="100000">
                <a:srgbClr val="0000ff">
                  <a:alpha val="24313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0" y="1989000"/>
            <a:ext cx="9144000" cy="38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IDL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科学计算可视化基础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Interactive Data Langu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中科院计算机网络信息中心 超级计算中心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谢茂金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: xiemaojin@sccas.c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2.11.0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5"/>
          <p:cNvSpPr/>
          <p:nvPr/>
        </p:nvSpPr>
        <p:spPr>
          <a:xfrm>
            <a:off x="1066680" y="3352680"/>
            <a:ext cx="367200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5213520" y="5113440"/>
            <a:ext cx="393048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图像处理例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le =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LEPA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'rose.jpg', SUBDIRECTORY = ['examples', 'data'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=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D_IMA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Size =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Z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mage, /DIMENS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VI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DECOMPOSED =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;Decomposed={0|1}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伪彩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真彩彩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XSIZE = imageSize[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, YSIZE = imageSize[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, $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TLE = ‘Original Rose Imag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image, TRUE =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;True={1|2|3}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对应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3,m,n),(m,3,n), (m,n,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XSIZE =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imageSize[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, YSIZE = imageSize[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, $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ITLE = 'Vertically Smoothed (left), Horizontally ' + $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'Smoothed (middle), and Both (right)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oothed =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MOO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mage, [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moothed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TRUE =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oothed =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MOO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mage, [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moothed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TRUE =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oothed =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MOO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mage, [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moothed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TRUE =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; Display the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5"/>
          <p:cNvGrpSpPr/>
          <p:nvPr/>
        </p:nvGrpSpPr>
        <p:grpSpPr>
          <a:xfrm>
            <a:off x="324000" y="-54000"/>
            <a:ext cx="8439120" cy="1682640"/>
            <a:chOff x="324000" y="-54000"/>
            <a:chExt cx="8439120" cy="1682640"/>
          </a:xfrm>
        </p:grpSpPr>
        <p:pic>
          <p:nvPicPr>
            <p:cNvPr id="116" name="Picture 6" descr=""/>
            <p:cNvPicPr/>
            <p:nvPr/>
          </p:nvPicPr>
          <p:blipFill>
            <a:blip r:embed="rId1"/>
            <a:stretch/>
          </p:blipFill>
          <p:spPr>
            <a:xfrm>
              <a:off x="2427480" y="-54000"/>
              <a:ext cx="6335640" cy="16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7" descr=""/>
            <p:cNvPicPr/>
            <p:nvPr/>
          </p:nvPicPr>
          <p:blipFill>
            <a:blip r:embed="rId2"/>
            <a:stretch/>
          </p:blipFill>
          <p:spPr>
            <a:xfrm>
              <a:off x="324000" y="-52200"/>
              <a:ext cx="2135160" cy="16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Rectangle 8"/>
            <p:cNvSpPr/>
            <p:nvPr/>
          </p:nvSpPr>
          <p:spPr>
            <a:xfrm>
              <a:off x="2499120" y="174240"/>
              <a:ext cx="208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SMOOTH(image, [1, 1, 21]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9"/>
            <p:cNvSpPr/>
            <p:nvPr/>
          </p:nvSpPr>
          <p:spPr>
            <a:xfrm>
              <a:off x="4586400" y="174240"/>
              <a:ext cx="216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SMOOTH(image, [1, 21, 1]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0"/>
            <p:cNvSpPr/>
            <p:nvPr/>
          </p:nvSpPr>
          <p:spPr>
            <a:xfrm>
              <a:off x="6674040" y="174240"/>
              <a:ext cx="208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SMOOTH(image, [1, 5, 5])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1"/>
            <p:cNvSpPr/>
            <p:nvPr/>
          </p:nvSpPr>
          <p:spPr>
            <a:xfrm>
              <a:off x="338400" y="174240"/>
              <a:ext cx="208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00"/>
                  </a:solidFill>
                  <a:latin typeface="Arial"/>
                </a:rPr>
                <a:t>原图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2"/>
          <p:cNvSpPr/>
          <p:nvPr/>
        </p:nvSpPr>
        <p:spPr>
          <a:xfrm>
            <a:off x="755640" y="4437000"/>
            <a:ext cx="4176720" cy="6476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1619280" y="1916280"/>
            <a:ext cx="2160720" cy="28872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826920" y="2781360"/>
            <a:ext cx="6050160" cy="50328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8"/>
          <p:cNvSpPr/>
          <p:nvPr/>
        </p:nvSpPr>
        <p:spPr>
          <a:xfrm>
            <a:off x="6902280" y="3573360"/>
            <a:ext cx="216000" cy="35892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6"/>
          <p:cNvSpPr/>
          <p:nvPr/>
        </p:nvSpPr>
        <p:spPr>
          <a:xfrm>
            <a:off x="7230960" y="2708280"/>
            <a:ext cx="188136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GBRGBRGB…….RG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7243560" y="4003560"/>
            <a:ext cx="180216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RRRRRRRRR….RR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GGGGGGGG….GG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BBBBBBBB….BB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8"/>
          <p:cNvSpPr/>
          <p:nvPr/>
        </p:nvSpPr>
        <p:spPr>
          <a:xfrm>
            <a:off x="7241400" y="3102120"/>
            <a:ext cx="1887480" cy="824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RRRRRRRRR….RR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GGGGGGGG….GG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BBBBBBBB…...BB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………………………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47"/>
          <p:cNvGrpSpPr/>
          <p:nvPr/>
        </p:nvGrpSpPr>
        <p:grpSpPr>
          <a:xfrm>
            <a:off x="6443640" y="4869000"/>
            <a:ext cx="2232000" cy="1412280"/>
            <a:chOff x="6443640" y="4869000"/>
            <a:chExt cx="2232000" cy="1412280"/>
          </a:xfrm>
        </p:grpSpPr>
        <p:sp>
          <p:nvSpPr>
            <p:cNvPr id="130" name="Rectangle 19"/>
            <p:cNvSpPr/>
            <p:nvPr/>
          </p:nvSpPr>
          <p:spPr>
            <a:xfrm>
              <a:off x="6443640" y="5343480"/>
              <a:ext cx="1656000" cy="864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0"/>
            <p:cNvSpPr/>
            <p:nvPr/>
          </p:nvSpPr>
          <p:spPr>
            <a:xfrm>
              <a:off x="6731280" y="5155920"/>
              <a:ext cx="1655640" cy="865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1"/>
            <p:cNvSpPr/>
            <p:nvPr/>
          </p:nvSpPr>
          <p:spPr>
            <a:xfrm>
              <a:off x="7020000" y="4940280"/>
              <a:ext cx="1655640" cy="864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36"/>
            <p:cNvGrpSpPr/>
            <p:nvPr/>
          </p:nvGrpSpPr>
          <p:grpSpPr>
            <a:xfrm>
              <a:off x="6514920" y="4869000"/>
              <a:ext cx="576720" cy="1412280"/>
              <a:chOff x="6514920" y="4869000"/>
              <a:chExt cx="576720" cy="1412280"/>
            </a:xfrm>
          </p:grpSpPr>
          <p:sp>
            <p:nvSpPr>
              <p:cNvPr id="134" name="Line 31"/>
              <p:cNvSpPr/>
              <p:nvPr/>
            </p:nvSpPr>
            <p:spPr>
              <a:xfrm>
                <a:off x="6515280" y="5256000"/>
                <a:ext cx="0" cy="98100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32"/>
              <p:cNvSpPr/>
              <p:nvPr/>
            </p:nvSpPr>
            <p:spPr>
              <a:xfrm>
                <a:off x="6804000" y="5084640"/>
                <a:ext cx="0" cy="98064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33"/>
              <p:cNvSpPr/>
              <p:nvPr/>
            </p:nvSpPr>
            <p:spPr>
              <a:xfrm>
                <a:off x="7091640" y="4869000"/>
                <a:ext cx="0" cy="98100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34"/>
              <p:cNvSpPr/>
              <p:nvPr/>
            </p:nvSpPr>
            <p:spPr>
              <a:xfrm flipH="1">
                <a:off x="6514920" y="4869000"/>
                <a:ext cx="576360" cy="40608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35"/>
              <p:cNvSpPr/>
              <p:nvPr/>
            </p:nvSpPr>
            <p:spPr>
              <a:xfrm flipH="1">
                <a:off x="6514920" y="5875200"/>
                <a:ext cx="576360" cy="40608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" name="Line 43"/>
          <p:cNvSpPr/>
          <p:nvPr/>
        </p:nvSpPr>
        <p:spPr>
          <a:xfrm flipV="1">
            <a:off x="5148360" y="2924280"/>
            <a:ext cx="2087640" cy="433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4"/>
          <p:cNvSpPr/>
          <p:nvPr/>
        </p:nvSpPr>
        <p:spPr>
          <a:xfrm flipV="1">
            <a:off x="5940360" y="3284280"/>
            <a:ext cx="1224000" cy="73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6"/>
          <p:cNvSpPr/>
          <p:nvPr/>
        </p:nvSpPr>
        <p:spPr>
          <a:xfrm>
            <a:off x="6516720" y="3573360"/>
            <a:ext cx="719280" cy="719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8"/>
          <p:cNvSpPr/>
          <p:nvPr/>
        </p:nvSpPr>
        <p:spPr>
          <a:xfrm>
            <a:off x="4859280" y="501336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、过程、参数、关键字、返回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和过程统称为例程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9"/>
          <p:cNvSpPr/>
          <p:nvPr/>
        </p:nvSpPr>
        <p:spPr>
          <a:xfrm>
            <a:off x="5148360" y="4292640"/>
            <a:ext cx="1079280" cy="4316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VSc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程序导读与语法解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927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6"/>
          <p:cNvSpPr/>
          <p:nvPr/>
        </p:nvSpPr>
        <p:spPr>
          <a:xfrm>
            <a:off x="5796000" y="1989000"/>
            <a:ext cx="3097080" cy="916920"/>
          </a:xfrm>
          <a:prstGeom prst="rect">
            <a:avLst/>
          </a:prstGeom>
          <a:solidFill>
            <a:srgbClr val="ffff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在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hell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[scxiemj@v3904 ~]$ idl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即可打开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7"/>
          <p:cNvSpPr/>
          <p:nvPr/>
        </p:nvSpPr>
        <p:spPr>
          <a:xfrm>
            <a:off x="900000" y="6237360"/>
            <a:ext cx="2519640" cy="431640"/>
          </a:xfrm>
          <a:prstGeom prst="wedgeEllipseCallout">
            <a:avLst>
              <a:gd name="adj1" fmla="val -53337"/>
              <a:gd name="adj2" fmla="val -533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此输入命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8"/>
          <p:cNvSpPr/>
          <p:nvPr/>
        </p:nvSpPr>
        <p:spPr>
          <a:xfrm>
            <a:off x="1835280" y="4292640"/>
            <a:ext cx="3960720" cy="576360"/>
          </a:xfrm>
          <a:prstGeom prst="wedgeEllipseCallout">
            <a:avLst>
              <a:gd name="adj1" fmla="val -52125"/>
              <a:gd name="adj2" fmla="val -764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显示用户变量和系统变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9"/>
          <p:cNvSpPr/>
          <p:nvPr/>
        </p:nvSpPr>
        <p:spPr>
          <a:xfrm>
            <a:off x="611280" y="2349360"/>
            <a:ext cx="1368360" cy="1295640"/>
          </a:xfrm>
          <a:prstGeom prst="wedgeEllipseCallout">
            <a:avLst>
              <a:gd name="adj1" fmla="val -56148"/>
              <a:gd name="adj2" fmla="val 767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控制台显示输出结果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20"/>
          <p:cNvSpPr/>
          <p:nvPr/>
        </p:nvSpPr>
        <p:spPr>
          <a:xfrm>
            <a:off x="1042920" y="1413000"/>
            <a:ext cx="1728720" cy="936360"/>
          </a:xfrm>
          <a:prstGeom prst="wedgeEllipseCallout">
            <a:avLst>
              <a:gd name="adj1" fmla="val -10513"/>
              <a:gd name="adj2" fmla="val -1255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编译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执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1476360" y="476280"/>
            <a:ext cx="503280" cy="28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rcRect l="0" t="0" r="981" b="0"/>
          <a:stretch/>
        </p:blipFill>
        <p:spPr>
          <a:xfrm>
            <a:off x="179280" y="-27000"/>
            <a:ext cx="8964720" cy="6332400"/>
          </a:xfrm>
          <a:prstGeom prst="rect">
            <a:avLst/>
          </a:prstGeom>
          <a:ln w="0">
            <a:noFill/>
          </a:ln>
        </p:spPr>
      </p:pic>
      <p:grpSp>
        <p:nvGrpSpPr>
          <p:cNvPr id="154" name="Group 3"/>
          <p:cNvGrpSpPr/>
          <p:nvPr/>
        </p:nvGrpSpPr>
        <p:grpSpPr>
          <a:xfrm>
            <a:off x="611280" y="333360"/>
            <a:ext cx="7921440" cy="5572080"/>
            <a:chOff x="611280" y="333360"/>
            <a:chExt cx="7921440" cy="5572080"/>
          </a:xfrm>
        </p:grpSpPr>
        <p:sp>
          <p:nvSpPr>
            <p:cNvPr id="155" name="Rectangle 4"/>
            <p:cNvSpPr/>
            <p:nvPr/>
          </p:nvSpPr>
          <p:spPr>
            <a:xfrm>
              <a:off x="2484360" y="3645000"/>
              <a:ext cx="277920" cy="2556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5"/>
            <p:cNvSpPr/>
            <p:nvPr/>
          </p:nvSpPr>
          <p:spPr>
            <a:xfrm>
              <a:off x="755640" y="4941720"/>
              <a:ext cx="1295280" cy="4320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6"/>
            <p:cNvSpPr/>
            <p:nvPr/>
          </p:nvSpPr>
          <p:spPr>
            <a:xfrm>
              <a:off x="611280" y="4508640"/>
              <a:ext cx="2663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7"/>
            <p:cNvSpPr/>
            <p:nvPr/>
          </p:nvSpPr>
          <p:spPr>
            <a:xfrm>
              <a:off x="2124000" y="836640"/>
              <a:ext cx="432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8"/>
            <p:cNvSpPr/>
            <p:nvPr/>
          </p:nvSpPr>
          <p:spPr>
            <a:xfrm>
              <a:off x="684360" y="1916280"/>
              <a:ext cx="2087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9"/>
            <p:cNvSpPr/>
            <p:nvPr/>
          </p:nvSpPr>
          <p:spPr>
            <a:xfrm>
              <a:off x="2916360" y="1700280"/>
              <a:ext cx="215640" cy="2160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0"/>
            <p:cNvSpPr/>
            <p:nvPr/>
          </p:nvSpPr>
          <p:spPr>
            <a:xfrm>
              <a:off x="3132000" y="1916280"/>
              <a:ext cx="32403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1"/>
            <p:cNvSpPr/>
            <p:nvPr/>
          </p:nvSpPr>
          <p:spPr>
            <a:xfrm>
              <a:off x="3564000" y="2205000"/>
              <a:ext cx="482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dgen(3,4)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生成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列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行的二维数组，每个元素的值依次递增，注意是按列存储。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12"/>
            <p:cNvSpPr/>
            <p:nvPr/>
          </p:nvSpPr>
          <p:spPr>
            <a:xfrm>
              <a:off x="3276720" y="333360"/>
              <a:ext cx="5256000" cy="360360"/>
            </a:xfrm>
            <a:prstGeom prst="wedgeRectCallout">
              <a:avLst>
                <a:gd name="adj1" fmla="val -60842"/>
                <a:gd name="adj2" fmla="val 6806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直接敲入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dl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，运行命令行形式的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D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13" descr=""/>
            <p:cNvPicPr/>
            <p:nvPr/>
          </p:nvPicPr>
          <p:blipFill>
            <a:blip r:embed="rId2"/>
            <a:stretch/>
          </p:blipFill>
          <p:spPr>
            <a:xfrm>
              <a:off x="3635280" y="2997360"/>
              <a:ext cx="4578480" cy="2908080"/>
            </a:xfrm>
            <a:prstGeom prst="rect">
              <a:avLst/>
            </a:prstGeom>
            <a:ln w="9360">
              <a:solidFill>
                <a:srgbClr val="ff00ff"/>
              </a:solidFill>
              <a:miter/>
            </a:ln>
          </p:spPr>
        </p:pic>
        <p:sp>
          <p:nvSpPr>
            <p:cNvPr id="165" name="AutoShape 14"/>
            <p:cNvSpPr/>
            <p:nvPr/>
          </p:nvSpPr>
          <p:spPr>
            <a:xfrm>
              <a:off x="5651640" y="1268280"/>
              <a:ext cx="2881080" cy="432000"/>
            </a:xfrm>
            <a:prstGeom prst="wedgeRectCallout">
              <a:avLst>
                <a:gd name="adj1" fmla="val -132370"/>
                <a:gd name="adj2" fmla="val 4963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分号后面的为注释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5"/>
            <p:cNvSpPr/>
            <p:nvPr/>
          </p:nvSpPr>
          <p:spPr>
            <a:xfrm>
              <a:off x="684360" y="5805360"/>
              <a:ext cx="1584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6"/>
            <p:cNvSpPr/>
            <p:nvPr/>
          </p:nvSpPr>
          <p:spPr>
            <a:xfrm flipV="1">
              <a:off x="2124000" y="5157360"/>
              <a:ext cx="1656000" cy="647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TextBox 16"/>
          <p:cNvSpPr/>
          <p:nvPr/>
        </p:nvSpPr>
        <p:spPr>
          <a:xfrm>
            <a:off x="939240" y="6357960"/>
            <a:ext cx="732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下命令行运行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需要添加环境变量，如：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:\Program Files\ITT\IDL71\bin\bin.x8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程序导读与语法解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程序的几种运行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命令行程序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命令行下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代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运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批处理文件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文本文件中输入代码，保存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文件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@FileNam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运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日志文件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命令行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UR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代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URNA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Nam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运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包含文件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包含一系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命令的文本文件，默认扩展名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IN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在其他文件中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FileNa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方式调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主程序文件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命令序列，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结束，保存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5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EW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命令运行，不能在命令行直接输入文件名运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过程、函数、过程文件的编写和执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5689440" cy="511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程序设计基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867280" y="160020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小写不敏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弱类型，赋值和类型提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矩阵：列优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常用功能符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注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续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断句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6"/>
          <p:cNvSpPr/>
          <p:nvPr/>
        </p:nvSpPr>
        <p:spPr>
          <a:xfrm>
            <a:off x="1042920" y="1484280"/>
            <a:ext cx="504720" cy="7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7"/>
          <p:cNvSpPr/>
          <p:nvPr/>
        </p:nvSpPr>
        <p:spPr>
          <a:xfrm flipH="1">
            <a:off x="1403280" y="4941720"/>
            <a:ext cx="504720" cy="73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8"/>
          <p:cNvSpPr/>
          <p:nvPr/>
        </p:nvSpPr>
        <p:spPr>
          <a:xfrm>
            <a:off x="900000" y="3357720"/>
            <a:ext cx="1150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9"/>
          <p:cNvSpPr/>
          <p:nvPr/>
        </p:nvSpPr>
        <p:spPr>
          <a:xfrm>
            <a:off x="900000" y="3933720"/>
            <a:ext cx="503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0"/>
          <p:cNvSpPr/>
          <p:nvPr/>
        </p:nvSpPr>
        <p:spPr>
          <a:xfrm>
            <a:off x="1042920" y="5229360"/>
            <a:ext cx="1008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个简单程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4358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该程序读入一小一大两个整形数给变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间的奇数存储到一个数组中，并统计数组元素的总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4"/>
          <p:cNvGrpSpPr/>
          <p:nvPr/>
        </p:nvGrpSpPr>
        <p:grpSpPr>
          <a:xfrm>
            <a:off x="250920" y="2852640"/>
            <a:ext cx="8893080" cy="3672000"/>
            <a:chOff x="250920" y="2852640"/>
            <a:chExt cx="8893080" cy="3672000"/>
          </a:xfrm>
        </p:grpSpPr>
        <p:pic>
          <p:nvPicPr>
            <p:cNvPr id="183" name="Picture 5" descr=""/>
            <p:cNvPicPr/>
            <p:nvPr/>
          </p:nvPicPr>
          <p:blipFill>
            <a:blip r:embed="rId1"/>
            <a:srcRect l="0" t="0" r="11090" b="0"/>
            <a:stretch/>
          </p:blipFill>
          <p:spPr>
            <a:xfrm>
              <a:off x="250920" y="2852640"/>
              <a:ext cx="8893080" cy="365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6" descr=""/>
            <p:cNvPicPr/>
            <p:nvPr/>
          </p:nvPicPr>
          <p:blipFill>
            <a:blip r:embed="rId2"/>
            <a:stretch/>
          </p:blipFill>
          <p:spPr>
            <a:xfrm>
              <a:off x="2916360" y="5227560"/>
              <a:ext cx="5208480" cy="129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6280"/>
          </a:xfrm>
          <a:prstGeom prst="rect">
            <a:avLst/>
          </a:prstGeom>
          <a:ln w="0">
            <a:noFill/>
          </a:ln>
        </p:spPr>
      </p:pic>
      <p:sp>
        <p:nvSpPr>
          <p:cNvPr id="191" name="Line 5"/>
          <p:cNvSpPr/>
          <p:nvPr/>
        </p:nvSpPr>
        <p:spPr>
          <a:xfrm>
            <a:off x="4140360" y="6381720"/>
            <a:ext cx="180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6"/>
          <p:cNvSpPr/>
          <p:nvPr/>
        </p:nvSpPr>
        <p:spPr>
          <a:xfrm>
            <a:off x="6012000" y="5734080"/>
            <a:ext cx="2305080" cy="431640"/>
          </a:xfrm>
          <a:prstGeom prst="wedgeRectCallout">
            <a:avLst>
              <a:gd name="adj1" fmla="val -54958"/>
              <a:gd name="adj2" fmla="val 801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数组函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求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7"/>
          <p:cNvSpPr/>
          <p:nvPr/>
        </p:nvSpPr>
        <p:spPr>
          <a:xfrm>
            <a:off x="2268360" y="0"/>
            <a:ext cx="6875640" cy="1268280"/>
          </a:xfrm>
          <a:prstGeom prst="wedgeRectCallout">
            <a:avLst>
              <a:gd name="adj1" fmla="val -53578"/>
              <a:gd name="adj2" fmla="val 46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过程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以保留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开头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结尾，其基本格式如下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过程名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参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参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]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关键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关键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命令序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1476360" y="1844640"/>
            <a:ext cx="285840" cy="360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1258920" y="1844640"/>
            <a:ext cx="285840" cy="360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3203640" y="1886040"/>
            <a:ext cx="5508720" cy="36828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B  128L   16384LL   3.14159D   7U   4UL   100ULL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1"/>
          <p:cNvSpPr/>
          <p:nvPr/>
        </p:nvSpPr>
        <p:spPr>
          <a:xfrm>
            <a:off x="3492360" y="5084640"/>
            <a:ext cx="2521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支、循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2"/>
          <p:cNvSpPr/>
          <p:nvPr/>
        </p:nvSpPr>
        <p:spPr>
          <a:xfrm>
            <a:off x="2771640" y="3900600"/>
            <a:ext cx="5112000" cy="36828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tArr IntArr LonArr  FltArr DblArr ComplexAr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3"/>
          <p:cNvSpPr/>
          <p:nvPr/>
        </p:nvSpPr>
        <p:spPr>
          <a:xfrm>
            <a:off x="1908000" y="3500280"/>
            <a:ext cx="2376720" cy="39240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过程文件的编译及过程调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过程文件是用来存放多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过程和函数，其扩展名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p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同名过程必须放在过程文件的最后，而且编译后可以直接使用过程文件的文件名运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0" y="1341360"/>
            <a:ext cx="6985080" cy="5319720"/>
          </a:xfrm>
          <a:prstGeom prst="rect">
            <a:avLst/>
          </a:prstGeom>
          <a:ln w="0">
            <a:noFill/>
          </a:ln>
        </p:spPr>
      </p:pic>
      <p:grpSp>
        <p:nvGrpSpPr>
          <p:cNvPr id="203" name="Group 5"/>
          <p:cNvGrpSpPr/>
          <p:nvPr/>
        </p:nvGrpSpPr>
        <p:grpSpPr>
          <a:xfrm>
            <a:off x="3492360" y="1268280"/>
            <a:ext cx="5651640" cy="5329440"/>
            <a:chOff x="3492360" y="1268280"/>
            <a:chExt cx="5651640" cy="5329440"/>
          </a:xfrm>
        </p:grpSpPr>
        <p:pic>
          <p:nvPicPr>
            <p:cNvPr id="204" name="Picture 6" descr=""/>
            <p:cNvPicPr/>
            <p:nvPr/>
          </p:nvPicPr>
          <p:blipFill>
            <a:blip r:embed="rId2"/>
            <a:srcRect l="0" t="0" r="4275" b="0"/>
            <a:stretch/>
          </p:blipFill>
          <p:spPr>
            <a:xfrm>
              <a:off x="3492360" y="1268280"/>
              <a:ext cx="5651640" cy="532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AutoShape 7"/>
            <p:cNvSpPr/>
            <p:nvPr/>
          </p:nvSpPr>
          <p:spPr>
            <a:xfrm>
              <a:off x="6156360" y="3122280"/>
              <a:ext cx="2663640" cy="960840"/>
            </a:xfrm>
            <a:prstGeom prst="wedgeRectCallout">
              <a:avLst>
                <a:gd name="adj1" fmla="val -20976"/>
                <a:gd name="adj2" fmla="val 3582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过程文件的编译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CTRL+F8)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和调用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8"/>
            <p:cNvSpPr/>
            <p:nvPr/>
          </p:nvSpPr>
          <p:spPr>
            <a:xfrm>
              <a:off x="4067280" y="3190680"/>
              <a:ext cx="15843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9"/>
            <p:cNvSpPr/>
            <p:nvPr/>
          </p:nvSpPr>
          <p:spPr>
            <a:xfrm>
              <a:off x="4067280" y="3671640"/>
              <a:ext cx="15843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0"/>
            <p:cNvSpPr/>
            <p:nvPr/>
          </p:nvSpPr>
          <p:spPr>
            <a:xfrm>
              <a:off x="4067280" y="4563360"/>
              <a:ext cx="3673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1"/>
            <p:cNvSpPr/>
            <p:nvPr/>
          </p:nvSpPr>
          <p:spPr>
            <a:xfrm>
              <a:off x="4052880" y="6556680"/>
              <a:ext cx="878040" cy="16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过程文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7993080" cy="551160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5"/>
          <p:cNvSpPr/>
          <p:nvPr/>
        </p:nvSpPr>
        <p:spPr>
          <a:xfrm>
            <a:off x="4643280" y="1125360"/>
            <a:ext cx="4321440" cy="790920"/>
          </a:xfrm>
          <a:prstGeom prst="wedgeRectCallout">
            <a:avLst>
              <a:gd name="adj1" fmla="val -53379"/>
              <a:gd name="adj2" fmla="val -194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过程文件用来存放多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过程和函数，其扩展名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pr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"/>
          <p:cNvSpPr/>
          <p:nvPr/>
        </p:nvSpPr>
        <p:spPr>
          <a:xfrm>
            <a:off x="5364000" y="4437000"/>
            <a:ext cx="3529080" cy="1944720"/>
          </a:xfrm>
          <a:prstGeom prst="wedgeRectCallout">
            <a:avLst>
              <a:gd name="adj1" fmla="val -58365"/>
              <a:gd name="adj2" fmla="val 387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过程文件编译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RL+F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后，可以按照过程和函数的调用方法任意调用过程文件中的过程和函数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7"/>
          <p:cNvSpPr/>
          <p:nvPr/>
        </p:nvSpPr>
        <p:spPr>
          <a:xfrm>
            <a:off x="4788000" y="2205000"/>
            <a:ext cx="4176720" cy="1655640"/>
          </a:xfrm>
          <a:prstGeom prst="wedgeRectCallout">
            <a:avLst>
              <a:gd name="adj1" fmla="val -56953"/>
              <a:gd name="adj2" fmla="val -354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主文件名可以与某个过程名相同，也可以不同，若相同，则该过程必须放在过程文件的最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611280" y="1268280"/>
            <a:ext cx="60300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1476360" y="5229360"/>
            <a:ext cx="71928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内容提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特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能干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支持的文件格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像处理简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程序导读与语法解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变量、数组、过程、函数、输入输出、循环、分支、判断等语法基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可视化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形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坐标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数据可视化：绘制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等值线，面，体绘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智能工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并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进一步学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基本数据类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数据类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十进制后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占用字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字节）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B, 12B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】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及 无符号整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字节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6, 8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及无符号长整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字节）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28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长整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L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无符号长整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字节）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4LL, 12UL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n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s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字节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14, 0., 3.14E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Ds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字节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14D, 3.14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单精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字节，双精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字节）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(1.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44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(1.44D, 4.7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】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lo IDL’   “I’m a string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6084720" y="2492280"/>
            <a:ext cx="100836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3924360" y="2492280"/>
            <a:ext cx="57636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1258920" y="4941720"/>
            <a:ext cx="108108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数据类型代码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06436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代码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名称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数据类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derfin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defi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ng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ngword int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oa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oating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uble_precision floa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le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lex floa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uc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Comple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uble_precision compl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inte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i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jRef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ject re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In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signed int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Long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signed Longword int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ng6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ngword 64-bit int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Long6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signed 64-bit int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常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字符型常量：又称为字符串，用“”或‘’界定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L7.1”, “12-47”, “I’m OK”, ‘2010/09/13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数值型常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41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14159265D,  0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(1.4, 2.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逻辑型常量：真和假，判断为真的情况如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字节型、整形和长整型的奇数；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3B, 5, 1L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真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4B,  0, 4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等为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非零的浮点型、双精度、和复数类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4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(4.1,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非空的字符串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如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c’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而空字符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”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变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变量定义：使用前无需事先说明类型，赋值时确定类型（连同类型一块赋值），不区分大小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变量命名：只能以字母或下划线开头，里边可以包括字母、数字、下划线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5"/>
          <p:cNvSpPr/>
          <p:nvPr/>
        </p:nvSpPr>
        <p:spPr>
          <a:xfrm>
            <a:off x="6500880" y="4000680"/>
            <a:ext cx="2000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错误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4357800" y="4071960"/>
            <a:ext cx="2000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正确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_R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16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$n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e4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7"/>
          <p:cNvSpPr/>
          <p:nvPr/>
        </p:nvSpPr>
        <p:spPr>
          <a:xfrm>
            <a:off x="714240" y="4643280"/>
            <a:ext cx="278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a=4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262673"/>
                </a:solidFill>
                <a:latin typeface="Arial"/>
              </a:rPr>
              <a:t>;a</a:t>
            </a:r>
            <a:r>
              <a:rPr b="1" lang="zh-CN" sz="2400" spc="-1" strike="noStrike">
                <a:solidFill>
                  <a:srgbClr val="262673"/>
                </a:solidFill>
                <a:latin typeface="Arial"/>
              </a:rPr>
              <a:t>是整形</a:t>
            </a:r>
            <a:r>
              <a:rPr b="1" lang="en-US" sz="2400" spc="-1" strike="noStrike">
                <a:solidFill>
                  <a:srgbClr val="262673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=8LL  </a:t>
            </a:r>
            <a:r>
              <a:rPr b="1" lang="en-US" sz="2400" spc="-1" strike="noStrike">
                <a:solidFill>
                  <a:srgbClr val="262673"/>
                </a:solidFill>
                <a:latin typeface="Arial"/>
              </a:rPr>
              <a:t>;b</a:t>
            </a:r>
            <a:r>
              <a:rPr b="1" lang="zh-CN" sz="2400" spc="-1" strike="noStrike">
                <a:solidFill>
                  <a:srgbClr val="262673"/>
                </a:solidFill>
                <a:latin typeface="Arial"/>
              </a:rPr>
              <a:t>是长整形</a:t>
            </a:r>
            <a:r>
              <a:rPr b="1" lang="en-US" sz="2400" spc="-1" strike="noStrike">
                <a:solidFill>
                  <a:srgbClr val="262673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=a     </a:t>
            </a:r>
            <a:r>
              <a:rPr b="1" lang="en-US" sz="2400" spc="-1" strike="noStrike">
                <a:solidFill>
                  <a:srgbClr val="262673"/>
                </a:solidFill>
                <a:latin typeface="Arial"/>
              </a:rPr>
              <a:t> ;b</a:t>
            </a:r>
            <a:r>
              <a:rPr b="1" lang="zh-CN" sz="2400" spc="-1" strike="noStrike">
                <a:solidFill>
                  <a:srgbClr val="262673"/>
                </a:solidFill>
                <a:latin typeface="Arial"/>
              </a:rPr>
              <a:t>是长整形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系统变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系统变量：以感叹号！开头。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PI (π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内部系统变量：由系统自动提供、自动生成和维护的一组特殊变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定义系统变量：用户根据需要自定义，用于描述系统运行中的状态或用于某种特殊用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SYSV, ‘var1’, expression[,Read_Only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SYSV, ‘var1’, EXISTS = va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系统变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250920" y="0"/>
            <a:ext cx="70848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5"/>
          <p:cNvSpPr/>
          <p:nvPr/>
        </p:nvSpPr>
        <p:spPr>
          <a:xfrm>
            <a:off x="5508720" y="5013360"/>
            <a:ext cx="3311280" cy="431640"/>
          </a:xfrm>
          <a:prstGeom prst="wedgeRectCallout">
            <a:avLst>
              <a:gd name="adj1" fmla="val -96069"/>
              <a:gd name="adj2" fmla="val -786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!PI   3.141592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4500720" y="3645000"/>
            <a:ext cx="4319280" cy="792000"/>
          </a:xfrm>
          <a:prstGeom prst="wedgeRectCallout">
            <a:avLst>
              <a:gd name="adj1" fmla="val -33643"/>
              <a:gd name="adj2" fmla="val 74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!PATH   D:\\Program File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可用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dPath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命令增加搜索路径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5508720" y="5589720"/>
            <a:ext cx="3311280" cy="431640"/>
          </a:xfrm>
          <a:prstGeom prst="wedgeRectCallout">
            <a:avLst>
              <a:gd name="adj1" fmla="val -108532"/>
              <a:gd name="adj2" fmla="val -1654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!PROMPT   IDL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8"/>
          <p:cNvSpPr/>
          <p:nvPr/>
        </p:nvSpPr>
        <p:spPr>
          <a:xfrm>
            <a:off x="5508720" y="1989000"/>
            <a:ext cx="3311280" cy="432000"/>
          </a:xfrm>
          <a:prstGeom prst="wedgeRectCallout">
            <a:avLst>
              <a:gd name="adj1" fmla="val -88972"/>
              <a:gd name="adj2" fmla="val -488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!DTOR  0.01745329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9" descr=""/>
          <p:cNvPicPr/>
          <p:nvPr/>
        </p:nvPicPr>
        <p:blipFill>
          <a:blip r:embed="rId2"/>
          <a:stretch/>
        </p:blipFill>
        <p:spPr>
          <a:xfrm>
            <a:off x="1979640" y="189000"/>
            <a:ext cx="6192720" cy="65556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  <p:sp>
        <p:nvSpPr>
          <p:cNvPr id="242" name="Rectangle 10"/>
          <p:cNvSpPr/>
          <p:nvPr/>
        </p:nvSpPr>
        <p:spPr>
          <a:xfrm>
            <a:off x="1908000" y="115920"/>
            <a:ext cx="1368720" cy="720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1"/>
          <p:cNvSpPr/>
          <p:nvPr/>
        </p:nvSpPr>
        <p:spPr>
          <a:xfrm>
            <a:off x="5724360" y="907920"/>
            <a:ext cx="3095640" cy="432000"/>
          </a:xfrm>
          <a:prstGeom prst="wedgeRectCallout">
            <a:avLst>
              <a:gd name="adj1" fmla="val -126412"/>
              <a:gd name="adj2" fmla="val -1264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带锁，表示只读不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内存变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临时存储于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存中的变量，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L&gt; a=4.0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L&gt; b=2.4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=2.4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Syntax err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L&gt; c=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L&gt; p=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tr_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3348000" y="1341360"/>
            <a:ext cx="5796000" cy="285768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5"/>
          <p:cNvSpPr/>
          <p:nvPr/>
        </p:nvSpPr>
        <p:spPr>
          <a:xfrm>
            <a:off x="6804000" y="2852640"/>
            <a:ext cx="1513080" cy="28908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"/>
          <p:cNvSpPr/>
          <p:nvPr/>
        </p:nvSpPr>
        <p:spPr>
          <a:xfrm>
            <a:off x="6948360" y="3789360"/>
            <a:ext cx="1584360" cy="0"/>
          </a:xfrm>
          <a:prstGeom prst="line">
            <a:avLst/>
          </a:prstGeom>
          <a:ln w="255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查看变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,exp1,exp2,…,expn][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format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=3.0D &amp; b=4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a, a+b, a/2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(‘I4, I4, I4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l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p1, exp2, …, exp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配符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[,OUTPUT=var] [,/SYSTEM_VARIABLES][,/STRUCTUR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, a, output = myVar   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把变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信息存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Va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‘a*’  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显示所有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开头的变量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, !D, /STRUCTURES  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显示系统变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!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结构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2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查看变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1"/>
          <a:srcRect l="0" t="931" r="0" b="0"/>
          <a:stretch/>
        </p:blipFill>
        <p:spPr>
          <a:xfrm>
            <a:off x="755640" y="1484280"/>
            <a:ext cx="7272360" cy="5146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变量的存储、释放与恢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86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保存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将有价值的内存变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编译程序及函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保存到文件中，以备下次继续使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,var1,…,varn] [,/ALL] [,/COMM,/VARIBLES] [,COMPRESS][,FILENAME=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文件名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[,/ROUTINES] [,/SYSTEM_VARIBLE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释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关闭所有文件，释放所有用户定义的变量、指针、对象等，初始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环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RESET_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FULL_RESET_SESSION  ;+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卸载所有动态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恢复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将之前保存在文件中的内存变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编译程序及函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恢复到内存中继续使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[[,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文件名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| [,FILENAME=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文件名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若不写文件名的话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将保存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lsave.da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将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lsave.da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恢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是什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L(Interactive Data Languag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交互式数据语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美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lisvi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之前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tvi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公司的旗舰产品，进行二维及多维数据可视化表现、分析及应用开发的软件，面向矩阵、语法简单的第四代可视化计算机语言。是进行数据分析、可视化表达与跨平台应用开发的理想工具。（目前版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xelisvis.com/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用户涵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S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A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men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edica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科学家利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“勇气号”和“机遇号”的数据进行数据分析和图像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数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按列存储，允许使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~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维数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数组创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直接创建（能创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~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维）数组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[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表达式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Array = [21, 10, 6, 6, 4, 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Array = [[21, 10, 6], [6, 4, 9]]    ;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Array =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[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1, 2, 3], [4, 5, 6]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7, 8, 9], [10, 11, 12]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]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层，下标顺序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Array[0,0,0]=1    myArray[1,0,0]=2    myArray[2,0,0]=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Array[0,1,0]=4    myArray[1,1,0]=5    myArray[2,1,0]=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Array[0,0,1]=7    myArray[1,0,1]=8    myArray[2,0,1]=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Array[0,1,1]=10  myArray[1,1,1]=11  myArray[2,1,1]=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898560" y="4724280"/>
            <a:ext cx="669780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"/>
          <p:cNvSpPr/>
          <p:nvPr/>
        </p:nvSpPr>
        <p:spPr>
          <a:xfrm>
            <a:off x="2987640" y="4941720"/>
            <a:ext cx="216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6"/>
          <p:cNvSpPr/>
          <p:nvPr/>
        </p:nvSpPr>
        <p:spPr>
          <a:xfrm>
            <a:off x="5219640" y="4941720"/>
            <a:ext cx="216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7"/>
          <p:cNvSpPr/>
          <p:nvPr/>
        </p:nvSpPr>
        <p:spPr>
          <a:xfrm>
            <a:off x="7451640" y="4869000"/>
            <a:ext cx="216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"/>
          <p:cNvSpPr/>
          <p:nvPr/>
        </p:nvSpPr>
        <p:spPr>
          <a:xfrm>
            <a:off x="755640" y="5373720"/>
            <a:ext cx="216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9"/>
          <p:cNvSpPr/>
          <p:nvPr/>
        </p:nvSpPr>
        <p:spPr>
          <a:xfrm>
            <a:off x="2987640" y="5373720"/>
            <a:ext cx="216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0"/>
          <p:cNvSpPr/>
          <p:nvPr/>
        </p:nvSpPr>
        <p:spPr>
          <a:xfrm>
            <a:off x="5219640" y="5373720"/>
            <a:ext cx="216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1"/>
          <p:cNvSpPr/>
          <p:nvPr/>
        </p:nvSpPr>
        <p:spPr>
          <a:xfrm>
            <a:off x="7451640" y="5373720"/>
            <a:ext cx="216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2"/>
          <p:cNvSpPr/>
          <p:nvPr/>
        </p:nvSpPr>
        <p:spPr>
          <a:xfrm>
            <a:off x="755640" y="5877000"/>
            <a:ext cx="216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3"/>
          <p:cNvSpPr/>
          <p:nvPr/>
        </p:nvSpPr>
        <p:spPr>
          <a:xfrm>
            <a:off x="2987640" y="5805360"/>
            <a:ext cx="216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4"/>
          <p:cNvSpPr/>
          <p:nvPr/>
        </p:nvSpPr>
        <p:spPr>
          <a:xfrm>
            <a:off x="5219640" y="5805360"/>
            <a:ext cx="216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5"/>
          <p:cNvSpPr/>
          <p:nvPr/>
        </p:nvSpPr>
        <p:spPr>
          <a:xfrm>
            <a:off x="7451640" y="5805360"/>
            <a:ext cx="216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6"/>
          <p:cNvSpPr/>
          <p:nvPr/>
        </p:nvSpPr>
        <p:spPr>
          <a:xfrm>
            <a:off x="755640" y="6310440"/>
            <a:ext cx="216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7"/>
          <p:cNvSpPr/>
          <p:nvPr/>
        </p:nvSpPr>
        <p:spPr>
          <a:xfrm>
            <a:off x="3060720" y="6310440"/>
            <a:ext cx="216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8"/>
          <p:cNvSpPr/>
          <p:nvPr/>
        </p:nvSpPr>
        <p:spPr>
          <a:xfrm>
            <a:off x="5219640" y="6308640"/>
            <a:ext cx="216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2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500"/>
                            </p:stCondLst>
                            <p:childTnLst>
                              <p:par>
                                <p:cTn id="22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500"/>
                            </p:stCondLst>
                            <p:childTnLst>
                              <p:par>
                                <p:cTn id="23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6000"/>
                            </p:stCondLst>
                            <p:childTnLst>
                              <p:par>
                                <p:cTn id="24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6500"/>
                            </p:stCondLst>
                            <p:childTnLst>
                              <p:par>
                                <p:cTn id="24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数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数组创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用函数创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~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数组初值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Array = fltArr(d1[,…,d8][,/NOZERO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Array = fltArr(3,4) ;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创建一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行的浮点数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NOZER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创建数组的初值为不确定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注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tAr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样的函数还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tArr(), IntArr(), uIntArr(), LonArr(), uLonArr(), Lon64Arr(), uLon64Arr(), DblArr(), ComplexArr(), DComplexArr(), StrArr(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用于创建各种类型的数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1"/>
          <a:srcRect l="0" t="0" r="0" b="51616"/>
          <a:stretch/>
        </p:blipFill>
        <p:spPr>
          <a:xfrm>
            <a:off x="324000" y="0"/>
            <a:ext cx="8280360" cy="2160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数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数组创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用函数创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~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数组初值为索引号的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Gen(d1[,…,d8][,/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|[TYPE=value])  ;*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代表某个数据类型，可以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te,complex,dcomplex, double, float, L64, Long, String, Uint, UL64, Ulong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种方法通过关键字来确定数组类型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0,15]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表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种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Ge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方法还有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Ge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Gen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Gen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Gen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6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Gen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Ge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Ge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D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Ge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1"/>
          <a:srcRect l="0" t="-4366" r="0" b="9341"/>
          <a:stretch/>
        </p:blipFill>
        <p:spPr>
          <a:xfrm>
            <a:off x="428760" y="0"/>
            <a:ext cx="8137440" cy="28544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数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数组创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icate(exp, d1[,…,d8]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来创建一个所有数组值均是表达式的值的一维或多维数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Array = replicate(!PI, 3, 2) &amp; print, my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_array(d0[,d1,...,d8][,/TYPE]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创建一个所有值都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一维或多维数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Array = make_array(3, 4, /dou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数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赋值和引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466560" y="2111400"/>
            <a:ext cx="8353440" cy="3333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83" name="Line 5"/>
          <p:cNvSpPr/>
          <p:nvPr/>
        </p:nvSpPr>
        <p:spPr>
          <a:xfrm>
            <a:off x="2266920" y="2492280"/>
            <a:ext cx="1224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6"/>
          <p:cNvSpPr/>
          <p:nvPr/>
        </p:nvSpPr>
        <p:spPr>
          <a:xfrm flipH="1">
            <a:off x="2247480" y="2563920"/>
            <a:ext cx="4514760" cy="156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1042920" y="3192480"/>
            <a:ext cx="86364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8"/>
          <p:cNvSpPr/>
          <p:nvPr/>
        </p:nvSpPr>
        <p:spPr>
          <a:xfrm>
            <a:off x="3922560" y="2492280"/>
            <a:ext cx="1224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>
            <a:off x="5651640" y="2492280"/>
            <a:ext cx="1224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0"/>
          <p:cNvSpPr/>
          <p:nvPr/>
        </p:nvSpPr>
        <p:spPr>
          <a:xfrm>
            <a:off x="2266920" y="2779560"/>
            <a:ext cx="1224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1"/>
          <p:cNvSpPr/>
          <p:nvPr/>
        </p:nvSpPr>
        <p:spPr>
          <a:xfrm>
            <a:off x="3922560" y="2779560"/>
            <a:ext cx="1224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2"/>
          <p:cNvSpPr/>
          <p:nvPr/>
        </p:nvSpPr>
        <p:spPr>
          <a:xfrm>
            <a:off x="5651640" y="2779560"/>
            <a:ext cx="1224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3"/>
          <p:cNvSpPr/>
          <p:nvPr/>
        </p:nvSpPr>
        <p:spPr>
          <a:xfrm>
            <a:off x="2266920" y="3068640"/>
            <a:ext cx="1224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4"/>
          <p:cNvSpPr/>
          <p:nvPr/>
        </p:nvSpPr>
        <p:spPr>
          <a:xfrm>
            <a:off x="3922560" y="3068640"/>
            <a:ext cx="1224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5"/>
          <p:cNvSpPr/>
          <p:nvPr/>
        </p:nvSpPr>
        <p:spPr>
          <a:xfrm>
            <a:off x="5651640" y="3068640"/>
            <a:ext cx="1224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6"/>
          <p:cNvSpPr/>
          <p:nvPr/>
        </p:nvSpPr>
        <p:spPr>
          <a:xfrm flipH="1">
            <a:off x="2266560" y="2852640"/>
            <a:ext cx="4514760" cy="157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500"/>
                            </p:stCondLst>
                            <p:childTnLst>
                              <p:par>
                                <p:cTn id="3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000"/>
                            </p:stCondLst>
                            <p:childTnLst>
                              <p:par>
                                <p:cTn id="30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500"/>
                            </p:stCondLst>
                            <p:childTnLst>
                              <p:par>
                                <p:cTn id="31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0"/>
                            </p:stCondLst>
                            <p:childTnLst>
                              <p:par>
                                <p:cTn id="31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数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赋值和引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4" descr=""/>
          <p:cNvPicPr/>
          <p:nvPr/>
        </p:nvPicPr>
        <p:blipFill>
          <a:blip r:embed="rId1"/>
          <a:stretch/>
        </p:blipFill>
        <p:spPr>
          <a:xfrm>
            <a:off x="466560" y="2111400"/>
            <a:ext cx="8353440" cy="3333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98" name="Rectangle 7"/>
          <p:cNvSpPr/>
          <p:nvPr/>
        </p:nvSpPr>
        <p:spPr>
          <a:xfrm>
            <a:off x="1042920" y="3192480"/>
            <a:ext cx="86364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17"/>
          <p:cNvGrpSpPr/>
          <p:nvPr/>
        </p:nvGrpSpPr>
        <p:grpSpPr>
          <a:xfrm>
            <a:off x="324000" y="404640"/>
            <a:ext cx="8496000" cy="2865600"/>
            <a:chOff x="324000" y="404640"/>
            <a:chExt cx="8496000" cy="2865600"/>
          </a:xfrm>
        </p:grpSpPr>
        <p:pic>
          <p:nvPicPr>
            <p:cNvPr id="300" name="Picture 18" descr=""/>
            <p:cNvPicPr/>
            <p:nvPr/>
          </p:nvPicPr>
          <p:blipFill>
            <a:blip r:embed="rId2"/>
            <a:stretch/>
          </p:blipFill>
          <p:spPr>
            <a:xfrm>
              <a:off x="324000" y="404640"/>
              <a:ext cx="8496000" cy="286560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sp>
          <p:nvSpPr>
            <p:cNvPr id="301" name="Text Box 19"/>
            <p:cNvSpPr/>
            <p:nvPr/>
          </p:nvSpPr>
          <p:spPr>
            <a:xfrm>
              <a:off x="4751280" y="2060280"/>
              <a:ext cx="3997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小心：二维下标数组的方式可能会让你感到失望！二维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下标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数组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会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被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IDL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拆解成一维下标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数组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20"/>
            <p:cNvSpPr/>
            <p:nvPr/>
          </p:nvSpPr>
          <p:spPr>
            <a:xfrm>
              <a:off x="1403280" y="1339560"/>
              <a:ext cx="432000" cy="3603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21"/>
            <p:cNvSpPr/>
            <p:nvPr/>
          </p:nvSpPr>
          <p:spPr>
            <a:xfrm>
              <a:off x="2700360" y="1339560"/>
              <a:ext cx="431640" cy="3603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22"/>
            <p:cNvSpPr/>
            <p:nvPr/>
          </p:nvSpPr>
          <p:spPr>
            <a:xfrm>
              <a:off x="2700360" y="1987560"/>
              <a:ext cx="719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3"/>
            <p:cNvSpPr/>
            <p:nvPr/>
          </p:nvSpPr>
          <p:spPr>
            <a:xfrm>
              <a:off x="3924360" y="1987560"/>
              <a:ext cx="718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24"/>
            <p:cNvSpPr/>
            <p:nvPr/>
          </p:nvSpPr>
          <p:spPr>
            <a:xfrm>
              <a:off x="3780000" y="2636640"/>
              <a:ext cx="718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25"/>
            <p:cNvSpPr/>
            <p:nvPr/>
          </p:nvSpPr>
          <p:spPr>
            <a:xfrm>
              <a:off x="2411280" y="2636640"/>
              <a:ext cx="719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26"/>
            <p:cNvSpPr/>
            <p:nvPr/>
          </p:nvSpPr>
          <p:spPr>
            <a:xfrm>
              <a:off x="1116000" y="2636640"/>
              <a:ext cx="719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27"/>
            <p:cNvSpPr/>
            <p:nvPr/>
          </p:nvSpPr>
          <p:spPr>
            <a:xfrm>
              <a:off x="3708360" y="2636640"/>
              <a:ext cx="719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Group 28"/>
          <p:cNvGrpSpPr/>
          <p:nvPr/>
        </p:nvGrpSpPr>
        <p:grpSpPr>
          <a:xfrm>
            <a:off x="2747160" y="5516640"/>
            <a:ext cx="5496840" cy="847800"/>
            <a:chOff x="2747160" y="5516640"/>
            <a:chExt cx="5496840" cy="847800"/>
          </a:xfrm>
        </p:grpSpPr>
        <p:sp>
          <p:nvSpPr>
            <p:cNvPr id="311" name="WordArt 29"/>
            <p:cNvSpPr txBox="1"/>
            <p:nvPr/>
          </p:nvSpPr>
          <p:spPr>
            <a:xfrm>
              <a:off x="7451640" y="5516640"/>
              <a:ext cx="792360" cy="817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隶书"/>
                </a:rPr>
                <a:t>?</a:t>
              </a:r>
              <a:endParaRPr b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隶书"/>
                <a:ea typeface="华文隶书"/>
              </a:endParaRPr>
            </a:p>
          </p:txBody>
        </p:sp>
        <p:sp>
          <p:nvSpPr>
            <p:cNvPr id="312" name="Text Box 30"/>
            <p:cNvSpPr/>
            <p:nvPr/>
          </p:nvSpPr>
          <p:spPr>
            <a:xfrm>
              <a:off x="2747160" y="5661000"/>
              <a:ext cx="3533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用二维的下标数组可以吗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数组操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1471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常用的函数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比循环的语法紧凑，运行高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求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(myArray[*:10, 10*4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求最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最小值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(myArray, MIN=myM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元素个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_Elements(myArr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数组尺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;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维数、列数、行数、类型、元素个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平均值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n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方差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dDev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标准偏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n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计算数组的平均值、方差、倾斜度、峰值、平均绝对偏差、标准偏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返回满足指定条件的数组元素下标所组成的一维数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or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不改变数组元素的前提下重新生成新的维数的数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常用运算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数值运算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圆括号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加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+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自加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减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自减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乘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除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^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乘方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数组或下标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求最小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求最大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矩阵列乘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#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矩阵行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关系运算符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于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于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大于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等于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于等于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大于等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逻辑运算：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逻辑非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&amp;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逻辑与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逻辑或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按位非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按位与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按位或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O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按位异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赋运算：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##=   *=    +=    -=    /=   AND=    EQ=    GE=    GT=    LE=    LT=    MOD=    NE=    OR=    XOR=     &lt;=    &gt;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900000" y="2421000"/>
            <a:ext cx="115092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2987640" y="2060640"/>
            <a:ext cx="93672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2340000" y="2421000"/>
            <a:ext cx="122400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3780000" y="2421000"/>
            <a:ext cx="151272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5508720" y="2421000"/>
            <a:ext cx="165564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9"/>
          <p:cNvSpPr/>
          <p:nvPr/>
        </p:nvSpPr>
        <p:spPr>
          <a:xfrm>
            <a:off x="7920000" y="4941720"/>
            <a:ext cx="53964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0"/>
          <p:cNvSpPr/>
          <p:nvPr/>
        </p:nvSpPr>
        <p:spPr>
          <a:xfrm>
            <a:off x="755640" y="5300640"/>
            <a:ext cx="53964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1"/>
          <p:cNvSpPr/>
          <p:nvPr/>
        </p:nvSpPr>
        <p:spPr>
          <a:xfrm>
            <a:off x="3492360" y="4941720"/>
            <a:ext cx="107964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常用控制语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 –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– Then –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–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–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 – Unt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X of – else – end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? Expr1:expr2 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条件判断语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的输入输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输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/ readu / rea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输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 / writeu / print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3"/>
          <p:cNvSpPr/>
          <p:nvPr/>
        </p:nvSpPr>
        <p:spPr>
          <a:xfrm>
            <a:off x="857160" y="3143160"/>
            <a:ext cx="4000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=fltarr(128, 128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r, lun, “../mydata.dat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u, lun,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se, l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4"/>
          <p:cNvSpPr/>
          <p:nvPr/>
        </p:nvSpPr>
        <p:spPr>
          <a:xfrm>
            <a:off x="857160" y="4857840"/>
            <a:ext cx="485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w, lun, “../mydata.txt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f, lun, format=‘(I12)’, myV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se, l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的特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I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V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菜单的定制、消息传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I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V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可视化界面的设计、语言通俗易懂、编程入门容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I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JAVA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具有良好的跨平台能力，方便移植，面向对象特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I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FORTRAN+C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风格绝大部分继承自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rtra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少量来源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面向矩阵，执行效率高，代码量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tra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少得多，简洁而不失灵活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I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MATLAB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提供了大量封装和参数化了的数学函数及各种信号处理的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I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PENG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提供了丰富的二维、三维图形图像操作类，能高效快速地对数据进行可视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可视化的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图形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直接图形系统和对象图形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坐标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窗口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数据可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的图形系统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之直接图形法和对象图形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直接图形法： 创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形时常用，如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, mapping, contour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简单、快速，但需反复重画，依赖于当前图形设备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象图形法： 加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系统显示，灵活，交互性强，充分控制对象，对象驻留内存，不需反复重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象管理：生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_New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销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_Destro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有效性查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_Va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象属性：获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Propert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设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对象图形系统的类和对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991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显示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  (*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代表前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Lg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容器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Scene, *View, *ViewGrou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型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Mode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是容器对象的子对象，起承上启下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元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, *Surface, *Axi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our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line, *Ploygon, *Light, *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属性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pboar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Font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无法直接显示的属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利用容器和模型对象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方法构造右图所示的结构，利用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象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方法绘制容器对象的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27"/>
          <p:cNvGrpSpPr/>
          <p:nvPr/>
        </p:nvGrpSpPr>
        <p:grpSpPr>
          <a:xfrm>
            <a:off x="6227640" y="1773360"/>
            <a:ext cx="2700360" cy="3960720"/>
            <a:chOff x="6227640" y="1773360"/>
            <a:chExt cx="2700360" cy="3960720"/>
          </a:xfrm>
        </p:grpSpPr>
        <p:sp>
          <p:nvSpPr>
            <p:cNvPr id="338" name="Rectangle 4"/>
            <p:cNvSpPr/>
            <p:nvPr/>
          </p:nvSpPr>
          <p:spPr>
            <a:xfrm>
              <a:off x="6227640" y="1773360"/>
              <a:ext cx="935280" cy="67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Tahoma"/>
                </a:rPr>
                <a:t>Graphics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Tahoma"/>
                </a:rPr>
                <a:t>Atom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6"/>
            <p:cNvSpPr/>
            <p:nvPr/>
          </p:nvSpPr>
          <p:spPr>
            <a:xfrm>
              <a:off x="6230880" y="4121280"/>
              <a:ext cx="681120" cy="53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Tahoma"/>
                </a:rPr>
                <a:t>View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7"/>
            <p:cNvSpPr/>
            <p:nvPr/>
          </p:nvSpPr>
          <p:spPr>
            <a:xfrm>
              <a:off x="6964200" y="5195880"/>
              <a:ext cx="849600" cy="53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Tahoma"/>
                </a:rPr>
                <a:t>Scen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8"/>
            <p:cNvSpPr/>
            <p:nvPr/>
          </p:nvSpPr>
          <p:spPr>
            <a:xfrm>
              <a:off x="7426440" y="1773360"/>
              <a:ext cx="934920" cy="67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Tahoma"/>
                </a:rPr>
                <a:t>Graphics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Tahoma"/>
                </a:rPr>
                <a:t>Atom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1"/>
            <p:cNvSpPr/>
            <p:nvPr/>
          </p:nvSpPr>
          <p:spPr>
            <a:xfrm>
              <a:off x="6897600" y="2909880"/>
              <a:ext cx="765360" cy="53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Tahoma"/>
                </a:rPr>
                <a:t>Model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2"/>
            <p:cNvSpPr/>
            <p:nvPr/>
          </p:nvSpPr>
          <p:spPr>
            <a:xfrm>
              <a:off x="8161200" y="2909880"/>
              <a:ext cx="766800" cy="53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Tahoma"/>
                </a:rPr>
                <a:t>Model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3"/>
            <p:cNvSpPr/>
            <p:nvPr/>
          </p:nvSpPr>
          <p:spPr>
            <a:xfrm>
              <a:off x="7362720" y="4121280"/>
              <a:ext cx="765360" cy="53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Tahoma"/>
                </a:rPr>
                <a:t>View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14"/>
            <p:cNvSpPr/>
            <p:nvPr/>
          </p:nvSpPr>
          <p:spPr>
            <a:xfrm>
              <a:off x="6561000" y="2421000"/>
              <a:ext cx="79236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5"/>
            <p:cNvSpPr/>
            <p:nvPr/>
          </p:nvSpPr>
          <p:spPr>
            <a:xfrm flipH="1">
              <a:off x="7353000" y="2421000"/>
              <a:ext cx="4316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8"/>
            <p:cNvSpPr/>
            <p:nvPr/>
          </p:nvSpPr>
          <p:spPr>
            <a:xfrm>
              <a:off x="7243920" y="3448080"/>
              <a:ext cx="398160" cy="6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20"/>
            <p:cNvSpPr/>
            <p:nvPr/>
          </p:nvSpPr>
          <p:spPr>
            <a:xfrm flipH="1">
              <a:off x="7696080" y="3448080"/>
              <a:ext cx="679680" cy="67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21"/>
            <p:cNvSpPr/>
            <p:nvPr/>
          </p:nvSpPr>
          <p:spPr>
            <a:xfrm>
              <a:off x="6630840" y="4657680"/>
              <a:ext cx="72252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2"/>
            <p:cNvSpPr/>
            <p:nvPr/>
          </p:nvSpPr>
          <p:spPr>
            <a:xfrm flipH="1">
              <a:off x="7353000" y="4657680"/>
              <a:ext cx="36828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28"/>
          <p:cNvSpPr/>
          <p:nvPr/>
        </p:nvSpPr>
        <p:spPr>
          <a:xfrm>
            <a:off x="6909840" y="5784840"/>
            <a:ext cx="124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对象图形系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组成结构和调用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图形系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之坐标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提供了三种独立的坐标系统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据坐标系统：通常与数据范围相同，可以是线性、对数或半对数的，系统默认的坐标系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设备坐标系统：选定设备的实际坐标系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归一化坐标系统：将数据坐标系统或设备坐标系统中行列数据范围归一化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0,1]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范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坐标系统之间的互相转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据坐标系统、设备坐标系统、归一化坐标系统间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T_Coor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[,y [,Z]], [,/Data|,/Device, /Normal], [,/Double][,/To_Data| ,/To_Device,|/ To_Normal]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笛卡尔坐标、极坐标、柱面坐标和球坐标系统间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V_Coord([,/Degrees][,Double][,From_Cylin=cyl_coords| ,From_Polar=pol_coords| ,From_Rect=rect_coords| , From_Sphere=sph_coords] [,/To_Cylin|,/To_Polar|,/To_Rect, /To_Spher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窗口系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建立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Win = OBJ_NEW(‘IDLgrWindow’,[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关键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属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绘制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[,IDLgrView | IDLgrViewGroup | IDLgrScen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 (*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代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Win-&gt;[IDLgrWindow::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清除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Erase [,color= index | [R,G,B]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显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隐藏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Show, 0 |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最小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还原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conify, 1 |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删除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_Destr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窗口对象的下一级对象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LgrView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可以设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LgrView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象的属性来修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大小和位置、投影方式、裁剪平面和裁剪方式、进行几何变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数据可视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绘制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多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lot,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无坐标轴多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绘制等值轮廓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绘制网格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fa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阴影曲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de_Su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绘制投影曲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_3D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体绘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LgrVolum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Arial"/>
              </a:rPr>
              <a:t>绘制坐标轴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Arial"/>
              </a:rPr>
              <a:t>绘制文本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XY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Arial"/>
              </a:rPr>
              <a:t>绘制条形图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Bar_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Arial"/>
              </a:rPr>
              <a:t>交互文本标注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Anno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Arial"/>
              </a:rPr>
              <a:t>交互控制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rack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线的绘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5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绘制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ot,[X]Y[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关键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| Y: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绘制线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| Y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轴坐标组成的数组。在绘图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被转换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数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L&gt; x=Findgen(101)*(0.01*2.0*!PI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L&gt; y = Sin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, x,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,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4" descr=""/>
          <p:cNvPicPr/>
          <p:nvPr/>
        </p:nvPicPr>
        <p:blipFill>
          <a:blip r:embed="rId1"/>
          <a:stretch/>
        </p:blipFill>
        <p:spPr>
          <a:xfrm>
            <a:off x="6156360" y="765000"/>
            <a:ext cx="2808360" cy="23641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5" descr=""/>
          <p:cNvPicPr/>
          <p:nvPr/>
        </p:nvPicPr>
        <p:blipFill>
          <a:blip r:embed="rId2"/>
          <a:stretch/>
        </p:blipFill>
        <p:spPr>
          <a:xfrm>
            <a:off x="6156360" y="3789360"/>
            <a:ext cx="2808360" cy="235728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6"/>
          <p:cNvSpPr/>
          <p:nvPr/>
        </p:nvSpPr>
        <p:spPr>
          <a:xfrm>
            <a:off x="6658920" y="321156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ot, x, 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7"/>
          <p:cNvSpPr/>
          <p:nvPr/>
        </p:nvSpPr>
        <p:spPr>
          <a:xfrm>
            <a:off x="6659640" y="616572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ot, 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线的绘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o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几十个关键字用于控制绘制的属性，包括线的虚实粗细，图形符号，颜色，位置，裁剪；标题文字及相应字体；坐标轴及其刻度的粗细长短宽窄朝向；所用的坐标系统及其缩放等每一个细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4" descr=""/>
          <p:cNvPicPr/>
          <p:nvPr/>
        </p:nvPicPr>
        <p:blipFill>
          <a:blip r:embed="rId1"/>
          <a:stretch/>
        </p:blipFill>
        <p:spPr>
          <a:xfrm>
            <a:off x="1403280" y="4149720"/>
            <a:ext cx="2808360" cy="23572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5" descr=""/>
          <p:cNvPicPr/>
          <p:nvPr/>
        </p:nvPicPr>
        <p:blipFill>
          <a:blip r:embed="rId2"/>
          <a:stretch/>
        </p:blipFill>
        <p:spPr>
          <a:xfrm>
            <a:off x="5076720" y="4076640"/>
            <a:ext cx="280836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线的绘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ot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部分关键字和使用方法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ISOTROPIC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：强制把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轴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轴转换成等比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Polar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：绘制极坐标下的线。这时格式为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ot, r, theta, /Po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THICK=value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：设定绘制线的粗细，默认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XLog,/YLog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：用于创建对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|Y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数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|Min_Value=value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：绘制数据的最大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最小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Sum=value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：每个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个值绘制一个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ckground | Color=value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：设定背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前景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SYM=integer{-10~10}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：按指定图形符号绘制数据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eStyle=integer{0~5}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实线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点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虚线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点虚线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点点虚线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长虚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4" descr=""/>
          <p:cNvPicPr/>
          <p:nvPr/>
        </p:nvPicPr>
        <p:blipFill>
          <a:blip r:embed="rId1"/>
          <a:stretch/>
        </p:blipFill>
        <p:spPr>
          <a:xfrm>
            <a:off x="0" y="990720"/>
            <a:ext cx="7236000" cy="60768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5" descr=""/>
          <p:cNvPicPr/>
          <p:nvPr/>
        </p:nvPicPr>
        <p:blipFill>
          <a:blip r:embed="rId2"/>
          <a:stretch/>
        </p:blipFill>
        <p:spPr>
          <a:xfrm>
            <a:off x="4067280" y="260280"/>
            <a:ext cx="4752720" cy="4000680"/>
          </a:xfrm>
          <a:prstGeom prst="rect">
            <a:avLst/>
          </a:prstGeom>
          <a:ln w="0">
            <a:noFill/>
          </a:ln>
        </p:spPr>
      </p:pic>
      <p:sp>
        <p:nvSpPr>
          <p:cNvPr id="373" name="Line 6"/>
          <p:cNvSpPr/>
          <p:nvPr/>
        </p:nvSpPr>
        <p:spPr>
          <a:xfrm flipH="1">
            <a:off x="2195280" y="4292640"/>
            <a:ext cx="1152360" cy="144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806760" y="4311720"/>
            <a:ext cx="145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Sym=-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0"/>
          <p:cNvSpPr/>
          <p:nvPr/>
        </p:nvSpPr>
        <p:spPr>
          <a:xfrm flipH="1">
            <a:off x="2771640" y="5157720"/>
            <a:ext cx="1152720" cy="144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1"/>
          <p:cNvSpPr/>
          <p:nvPr/>
        </p:nvSpPr>
        <p:spPr>
          <a:xfrm>
            <a:off x="1383480" y="517680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Sym=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643280" y="691920"/>
            <a:ext cx="417672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DL&gt;  r=findgen(100)*0.01 IDL&gt;  t=4.0*!Pi*r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DL&gt;  Plot, r, t, /p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19"/>
          <p:cNvGrpSpPr/>
          <p:nvPr/>
        </p:nvGrpSpPr>
        <p:grpSpPr>
          <a:xfrm>
            <a:off x="6343560" y="831960"/>
            <a:ext cx="2692080" cy="2020320"/>
            <a:chOff x="6343560" y="831960"/>
            <a:chExt cx="2692080" cy="2020320"/>
          </a:xfrm>
        </p:grpSpPr>
        <p:pic>
          <p:nvPicPr>
            <p:cNvPr id="62" name="Picture 7" descr=""/>
            <p:cNvPicPr/>
            <p:nvPr/>
          </p:nvPicPr>
          <p:blipFill>
            <a:blip r:embed="rId1"/>
            <a:stretch/>
          </p:blipFill>
          <p:spPr>
            <a:xfrm>
              <a:off x="6343560" y="831960"/>
              <a:ext cx="1594440" cy="137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8" descr=""/>
            <p:cNvPicPr/>
            <p:nvPr/>
          </p:nvPicPr>
          <p:blipFill>
            <a:blip r:embed="rId2"/>
            <a:stretch/>
          </p:blipFill>
          <p:spPr>
            <a:xfrm>
              <a:off x="6876720" y="1310040"/>
              <a:ext cx="2158920" cy="154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0"/>
            <p:cNvSpPr/>
            <p:nvPr/>
          </p:nvSpPr>
          <p:spPr>
            <a:xfrm>
              <a:off x="6703920" y="2333520"/>
              <a:ext cx="1846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28"/>
          <p:cNvGrpSpPr/>
          <p:nvPr/>
        </p:nvGrpSpPr>
        <p:grpSpPr>
          <a:xfrm>
            <a:off x="250920" y="1052640"/>
            <a:ext cx="1871640" cy="1968480"/>
            <a:chOff x="250920" y="1052640"/>
            <a:chExt cx="1871640" cy="1968480"/>
          </a:xfrm>
        </p:grpSpPr>
        <p:graphicFrame>
          <p:nvGraphicFramePr>
            <p:cNvPr id="66" name="Object 3"/>
            <p:cNvGraphicFramePr/>
            <p:nvPr/>
          </p:nvGraphicFramePr>
          <p:xfrm>
            <a:off x="250920" y="1052640"/>
            <a:ext cx="1871640" cy="1700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7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0920" y="1052640"/>
                      <a:ext cx="1871640" cy="170028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8" name="Text Box 12"/>
            <p:cNvSpPr/>
            <p:nvPr/>
          </p:nvSpPr>
          <p:spPr>
            <a:xfrm>
              <a:off x="322200" y="25639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Picture 16" descr=""/>
          <p:cNvPicPr/>
          <p:nvPr/>
        </p:nvPicPr>
        <p:blipFill>
          <a:blip r:embed="rId5"/>
          <a:stretch/>
        </p:blipFill>
        <p:spPr>
          <a:xfrm>
            <a:off x="3276720" y="4726080"/>
            <a:ext cx="2079360" cy="1527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" descr=""/>
          <p:cNvPicPr/>
          <p:nvPr/>
        </p:nvPicPr>
        <p:blipFill>
          <a:blip r:embed="rId6"/>
          <a:stretch/>
        </p:blipFill>
        <p:spPr>
          <a:xfrm>
            <a:off x="4429080" y="5373720"/>
            <a:ext cx="2314800" cy="132876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54"/>
          <p:cNvGrpSpPr/>
          <p:nvPr/>
        </p:nvGrpSpPr>
        <p:grpSpPr>
          <a:xfrm>
            <a:off x="6407280" y="2997360"/>
            <a:ext cx="2736720" cy="2735280"/>
            <a:chOff x="6407280" y="2997360"/>
            <a:chExt cx="2736720" cy="2735280"/>
          </a:xfrm>
        </p:grpSpPr>
        <p:pic>
          <p:nvPicPr>
            <p:cNvPr id="72" name="Picture 2060" descr=""/>
            <p:cNvPicPr/>
            <p:nvPr/>
          </p:nvPicPr>
          <p:blipFill>
            <a:blip r:embed="rId7"/>
            <a:stretch/>
          </p:blipFill>
          <p:spPr>
            <a:xfrm>
              <a:off x="6407280" y="4292640"/>
              <a:ext cx="2736720" cy="144000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73" name="Picture 2063" descr=""/>
            <p:cNvPicPr/>
            <p:nvPr/>
          </p:nvPicPr>
          <p:blipFill>
            <a:blip r:embed="rId8"/>
            <a:srcRect l="0" t="0" r="960" b="3764"/>
            <a:stretch/>
          </p:blipFill>
          <p:spPr>
            <a:xfrm>
              <a:off x="7308720" y="2997360"/>
              <a:ext cx="1603440" cy="155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" name="Text Box 13"/>
          <p:cNvSpPr/>
          <p:nvPr/>
        </p:nvSpPr>
        <p:spPr>
          <a:xfrm>
            <a:off x="7056360" y="429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32"/>
          <p:cNvGrpSpPr/>
          <p:nvPr/>
        </p:nvGrpSpPr>
        <p:grpSpPr>
          <a:xfrm>
            <a:off x="2340000" y="549360"/>
            <a:ext cx="3168360" cy="1752120"/>
            <a:chOff x="2340000" y="549360"/>
            <a:chExt cx="3168360" cy="1752120"/>
          </a:xfrm>
        </p:grpSpPr>
        <p:sp>
          <p:nvSpPr>
            <p:cNvPr id="76" name="Text Box 23"/>
            <p:cNvSpPr/>
            <p:nvPr/>
          </p:nvSpPr>
          <p:spPr>
            <a:xfrm>
              <a:off x="3131640" y="1845000"/>
              <a:ext cx="92412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Picture 27" descr=""/>
            <p:cNvPicPr/>
            <p:nvPr/>
          </p:nvPicPr>
          <p:blipFill>
            <a:blip r:embed="rId9"/>
            <a:stretch/>
          </p:blipFill>
          <p:spPr>
            <a:xfrm>
              <a:off x="2340000" y="549360"/>
              <a:ext cx="1848240" cy="12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30" descr=""/>
            <p:cNvPicPr/>
            <p:nvPr/>
          </p:nvPicPr>
          <p:blipFill>
            <a:blip r:embed="rId10"/>
            <a:srcRect l="0" t="0" r="7630" b="0"/>
            <a:stretch/>
          </p:blipFill>
          <p:spPr>
            <a:xfrm>
              <a:off x="4188240" y="550440"/>
              <a:ext cx="1320120" cy="85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31" descr=""/>
            <p:cNvPicPr/>
            <p:nvPr/>
          </p:nvPicPr>
          <p:blipFill>
            <a:blip r:embed="rId11"/>
            <a:stretch/>
          </p:blipFill>
          <p:spPr>
            <a:xfrm rot="10800000">
              <a:off x="3999960" y="1377000"/>
              <a:ext cx="1508040" cy="84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" name="Diagram 34"/>
          <p:cNvGrpSpPr/>
          <p:nvPr/>
        </p:nvGrpSpPr>
        <p:grpSpPr>
          <a:xfrm>
            <a:off x="2124000" y="2176920"/>
            <a:ext cx="5256000" cy="2836080"/>
            <a:chOff x="2124000" y="2176920"/>
            <a:chExt cx="5256000" cy="2836080"/>
          </a:xfrm>
        </p:grpSpPr>
        <p:sp>
          <p:nvSpPr>
            <p:cNvPr id="81" name="_s1028"/>
            <p:cNvSpPr/>
            <p:nvPr/>
          </p:nvSpPr>
          <p:spPr>
            <a:xfrm flipH="1" flipV="1">
              <a:off x="3611880" y="3059280"/>
              <a:ext cx="572760" cy="210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029"/>
            <p:cNvSpPr/>
            <p:nvPr/>
          </p:nvSpPr>
          <p:spPr>
            <a:xfrm>
              <a:off x="2124000" y="2275920"/>
              <a:ext cx="1799640" cy="8413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00"/>
                  </a:solidFill>
                  <a:latin typeface="Arial"/>
                </a:rPr>
                <a:t>医学影像</a:t>
              </a:r>
              <a:endParaRPr b="1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1030"/>
            <p:cNvSpPr/>
            <p:nvPr/>
          </p:nvSpPr>
          <p:spPr>
            <a:xfrm flipH="1">
              <a:off x="3613680" y="3688560"/>
              <a:ext cx="572760" cy="210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1031"/>
            <p:cNvSpPr/>
            <p:nvPr/>
          </p:nvSpPr>
          <p:spPr>
            <a:xfrm>
              <a:off x="2124000" y="3645000"/>
              <a:ext cx="1871280" cy="838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00"/>
                  </a:solidFill>
                  <a:latin typeface="Arial"/>
                </a:rPr>
                <a:t>图像处理</a:t>
              </a:r>
              <a:endParaRPr b="1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00"/>
                  </a:solidFill>
                  <a:latin typeface="Arial"/>
                </a:rPr>
                <a:t>与分析</a:t>
              </a:r>
              <a:endParaRPr b="1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1032"/>
            <p:cNvSpPr/>
            <p:nvPr/>
          </p:nvSpPr>
          <p:spPr>
            <a:xfrm>
              <a:off x="4753800" y="3895920"/>
              <a:ext cx="0" cy="42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1033"/>
            <p:cNvSpPr/>
            <p:nvPr/>
          </p:nvSpPr>
          <p:spPr>
            <a:xfrm>
              <a:off x="4066920" y="4076280"/>
              <a:ext cx="1656720" cy="9367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00"/>
                  </a:solidFill>
                  <a:latin typeface="Arial"/>
                </a:rPr>
                <a:t>信号处理</a:t>
              </a:r>
              <a:endParaRPr b="1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1034"/>
            <p:cNvSpPr/>
            <p:nvPr/>
          </p:nvSpPr>
          <p:spPr>
            <a:xfrm>
              <a:off x="5319000" y="3687120"/>
              <a:ext cx="572760" cy="209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1035"/>
            <p:cNvSpPr/>
            <p:nvPr/>
          </p:nvSpPr>
          <p:spPr>
            <a:xfrm>
              <a:off x="5723640" y="3757680"/>
              <a:ext cx="1656360" cy="4507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00"/>
                  </a:solidFill>
                  <a:latin typeface="Arial"/>
                </a:rPr>
                <a:t>地球科学</a:t>
              </a:r>
              <a:endParaRPr b="1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1036"/>
            <p:cNvSpPr/>
            <p:nvPr/>
          </p:nvSpPr>
          <p:spPr>
            <a:xfrm flipV="1">
              <a:off x="5319000" y="3058200"/>
              <a:ext cx="570960" cy="210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1037"/>
            <p:cNvSpPr/>
            <p:nvPr/>
          </p:nvSpPr>
          <p:spPr>
            <a:xfrm>
              <a:off x="5802840" y="2430360"/>
              <a:ext cx="1314360" cy="8391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00"/>
                  </a:solidFill>
                  <a:latin typeface="Arial"/>
                </a:rPr>
                <a:t>数据处理</a:t>
              </a:r>
              <a:endParaRPr b="1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00"/>
                  </a:solidFill>
                  <a:latin typeface="Arial"/>
                </a:rPr>
                <a:t>与分析</a:t>
              </a:r>
              <a:endParaRPr b="1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1038"/>
            <p:cNvSpPr/>
            <p:nvPr/>
          </p:nvSpPr>
          <p:spPr>
            <a:xfrm flipV="1">
              <a:off x="4752000" y="2639160"/>
              <a:ext cx="0" cy="42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039"/>
            <p:cNvSpPr/>
            <p:nvPr/>
          </p:nvSpPr>
          <p:spPr>
            <a:xfrm>
              <a:off x="4095720" y="2176920"/>
              <a:ext cx="1267200" cy="464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00"/>
                  </a:solidFill>
                  <a:latin typeface="Arial"/>
                </a:rPr>
                <a:t>天文</a:t>
              </a:r>
              <a:endParaRPr b="1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040"/>
            <p:cNvSpPr/>
            <p:nvPr/>
          </p:nvSpPr>
          <p:spPr>
            <a:xfrm>
              <a:off x="3979800" y="2781360"/>
              <a:ext cx="2105280" cy="1222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DL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能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做什么？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AutoShape 49"/>
          <p:cNvSpPr/>
          <p:nvPr/>
        </p:nvSpPr>
        <p:spPr>
          <a:xfrm>
            <a:off x="755640" y="5516640"/>
            <a:ext cx="2160720" cy="792000"/>
          </a:xfrm>
          <a:prstGeom prst="cloudCallout">
            <a:avLst>
              <a:gd name="adj1" fmla="val 43976"/>
              <a:gd name="adj2" fmla="val -976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2"/>
          <p:cNvSpPr/>
          <p:nvPr/>
        </p:nvSpPr>
        <p:spPr>
          <a:xfrm flipH="1">
            <a:off x="2484000" y="3860640"/>
            <a:ext cx="1871640" cy="158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6" descr=""/>
          <p:cNvPicPr/>
          <p:nvPr/>
        </p:nvPicPr>
        <p:blipFill>
          <a:blip r:embed="rId12"/>
          <a:stretch/>
        </p:blipFill>
        <p:spPr>
          <a:xfrm>
            <a:off x="0" y="3284640"/>
            <a:ext cx="2376360" cy="1788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7" name="Picture 9" descr=""/>
          <p:cNvPicPr/>
          <p:nvPr/>
        </p:nvPicPr>
        <p:blipFill>
          <a:blip r:embed="rId13"/>
          <a:stretch/>
        </p:blipFill>
        <p:spPr>
          <a:xfrm>
            <a:off x="468360" y="2708280"/>
            <a:ext cx="1366920" cy="979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lo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绘制多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lot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使用方法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ot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的用法基本相同，区别在于连续使用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lot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时，可以在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同一个坐标系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中绘制多条直线或者曲线，而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不擦除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原</a:t>
            </a:r>
            <a:br>
              <a:rPr sz="2600"/>
            </a:b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有内容。相当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ot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加</a:t>
            </a:r>
            <a:br>
              <a:rPr sz="2600"/>
            </a:b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了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/NoErase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关键字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4" descr=""/>
          <p:cNvPicPr/>
          <p:nvPr/>
        </p:nvPicPr>
        <p:blipFill>
          <a:blip r:embed="rId1"/>
          <a:srcRect l="0" t="0" r="2188" b="0"/>
          <a:stretch/>
        </p:blipFill>
        <p:spPr>
          <a:xfrm>
            <a:off x="4319640" y="2276640"/>
            <a:ext cx="4824360" cy="424944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5"/>
          <p:cNvSpPr/>
          <p:nvPr/>
        </p:nvSpPr>
        <p:spPr>
          <a:xfrm>
            <a:off x="539640" y="3519360"/>
            <a:ext cx="457200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x=findgen(101)*(0.01*2.0*!PI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lot, x, sin(x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Plot, x, cos(x), pSym=-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Plot, x, sin(x)*cos(x), $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inestyle=5, Thick=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6"/>
          <p:cNvSpPr/>
          <p:nvPr/>
        </p:nvSpPr>
        <p:spPr>
          <a:xfrm flipV="1">
            <a:off x="2268360" y="3357720"/>
            <a:ext cx="3743640" cy="86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7"/>
          <p:cNvSpPr/>
          <p:nvPr/>
        </p:nvSpPr>
        <p:spPr>
          <a:xfrm flipV="1">
            <a:off x="3780000" y="3715920"/>
            <a:ext cx="3743280" cy="865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8"/>
          <p:cNvSpPr/>
          <p:nvPr/>
        </p:nvSpPr>
        <p:spPr>
          <a:xfrm flipV="1">
            <a:off x="3995640" y="4868640"/>
            <a:ext cx="237492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s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绘制无坐标多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ots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使用方法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ot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的用法基本相同，区别在于连续使用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ots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时，可以在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多个坐标系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中绘制任意多条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没有坐标轴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的直线或者曲线，而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不擦除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原有内容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除了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ot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相同的关键字外，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ots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还有一个关键字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/Continue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，在最后一次的绘制点处继续连续绘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5508720" y="4005360"/>
            <a:ext cx="3085920" cy="260496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5"/>
          <p:cNvSpPr/>
          <p:nvPr/>
        </p:nvSpPr>
        <p:spPr>
          <a:xfrm>
            <a:off x="395280" y="4076640"/>
            <a:ext cx="4897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=[0, 10, 20, 30, 40] &amp; y=[0, 0.8, 1, 0.6, 0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=[50, 60, 70, 80] &amp; v=[-0.3, -0.5, -0.3, 0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ots, x/2, y/2+0.5, pSym=-2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ots, u/2, v/2+0.5, pSym=-2, /contin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ots, x/2, y/2+0.3, pSym=-6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ots, u/2, v/2+0.3, pSym=-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6"/>
          <p:cNvSpPr/>
          <p:nvPr/>
        </p:nvSpPr>
        <p:spPr>
          <a:xfrm flipV="1">
            <a:off x="4284720" y="4653000"/>
            <a:ext cx="180000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7"/>
          <p:cNvSpPr/>
          <p:nvPr/>
        </p:nvSpPr>
        <p:spPr>
          <a:xfrm flipV="1">
            <a:off x="4140360" y="5516640"/>
            <a:ext cx="180000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our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绘制等值轮廓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22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ou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于绘制坐标系中任意的等值轮廓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ou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用法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o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用法基本相同，也提供了许多关键字用于设置线、标注、坐标轴等元素的每一个细节。关键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OverPlo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效果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o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NO_ERAS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具有相同的效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关键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s=vecto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于设置每层对应的数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"/>
          <p:cNvPicPr/>
          <p:nvPr/>
        </p:nvPicPr>
        <p:blipFill>
          <a:blip r:embed="rId1"/>
          <a:srcRect l="1209" t="1741" r="0" b="1112"/>
          <a:stretch/>
        </p:blipFill>
        <p:spPr>
          <a:xfrm>
            <a:off x="6227640" y="1557360"/>
            <a:ext cx="2735280" cy="21607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8" descr=""/>
          <p:cNvPicPr/>
          <p:nvPr/>
        </p:nvPicPr>
        <p:blipFill>
          <a:blip r:embed="rId2"/>
          <a:stretch/>
        </p:blipFill>
        <p:spPr>
          <a:xfrm>
            <a:off x="5867280" y="3860640"/>
            <a:ext cx="3221280" cy="270684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9"/>
          <p:cNvSpPr/>
          <p:nvPr/>
        </p:nvSpPr>
        <p:spPr>
          <a:xfrm>
            <a:off x="6373800" y="1197000"/>
            <a:ext cx="19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VScl, DIST(10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face Shade_Surf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绘制网格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fac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于在坐标系中绘制任意的三维网格。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o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用法基本相同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X|AZ = degre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关键字用于设置网格面绕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|Z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轴旋转的角度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Lower_ONLY|Upper_ONLY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设置只绘制底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顶面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de=array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指定一个二维数组作为表面纹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de_Surf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fac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法基本相同，但能绘出带阴影的三维曲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4" descr=""/>
          <p:cNvPicPr/>
          <p:nvPr/>
        </p:nvPicPr>
        <p:blipFill>
          <a:blip r:embed="rId1"/>
          <a:stretch/>
        </p:blipFill>
        <p:spPr>
          <a:xfrm>
            <a:off x="539640" y="0"/>
            <a:ext cx="4140360" cy="34894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"/>
          <p:cNvPicPr/>
          <p:nvPr/>
        </p:nvPicPr>
        <p:blipFill>
          <a:blip r:embed="rId2"/>
          <a:stretch/>
        </p:blipFill>
        <p:spPr>
          <a:xfrm>
            <a:off x="4680000" y="0"/>
            <a:ext cx="4103640" cy="34639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6" descr=""/>
          <p:cNvPicPr/>
          <p:nvPr/>
        </p:nvPicPr>
        <p:blipFill>
          <a:blip r:embed="rId3"/>
          <a:stretch/>
        </p:blipFill>
        <p:spPr>
          <a:xfrm>
            <a:off x="612720" y="3473280"/>
            <a:ext cx="4067280" cy="34322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7" descr=""/>
          <p:cNvPicPr/>
          <p:nvPr/>
        </p:nvPicPr>
        <p:blipFill>
          <a:blip r:embed="rId4"/>
          <a:stretch/>
        </p:blipFill>
        <p:spPr>
          <a:xfrm>
            <a:off x="4680000" y="3500280"/>
            <a:ext cx="4032360" cy="339732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8"/>
          <p:cNvSpPr/>
          <p:nvPr/>
        </p:nvSpPr>
        <p:spPr>
          <a:xfrm>
            <a:off x="4855320" y="3716280"/>
            <a:ext cx="382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urface, Dist(16),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$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KIRT=4, LineStyle=4, thick=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1692360" y="3763800"/>
            <a:ext cx="273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urface, Dist(16)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$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/LEG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0"/>
          <p:cNvSpPr/>
          <p:nvPr/>
        </p:nvSpPr>
        <p:spPr>
          <a:xfrm>
            <a:off x="5724360" y="206280"/>
            <a:ext cx="259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urface, Dist(16)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$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/HORIZONT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1"/>
          <p:cNvSpPr/>
          <p:nvPr/>
        </p:nvSpPr>
        <p:spPr>
          <a:xfrm>
            <a:off x="1761120" y="379440"/>
            <a:ext cx="21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urface, Dist(16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40212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3780000" y="2637000"/>
            <a:ext cx="4824360" cy="405576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6"/>
          <p:cNvSpPr/>
          <p:nvPr/>
        </p:nvSpPr>
        <p:spPr>
          <a:xfrm>
            <a:off x="549360" y="450720"/>
            <a:ext cx="357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=dist(300) &amp; shade_surf, 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4279680" y="2898720"/>
            <a:ext cx="38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=dist(300) &amp; shade_surf, A, $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hades = BytScl(sin(A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_3DBox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绘制投影曲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_3DBo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适用于绘制三维数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z=f(x,y)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投影曲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XY|XZ|YZ_PLAN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绘制三个投影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4" descr=""/>
          <p:cNvPicPr/>
          <p:nvPr/>
        </p:nvPicPr>
        <p:blipFill>
          <a:blip r:embed="rId1"/>
          <a:stretch/>
        </p:blipFill>
        <p:spPr>
          <a:xfrm>
            <a:off x="4500720" y="2975040"/>
            <a:ext cx="4246560" cy="35654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5" descr=""/>
          <p:cNvPicPr/>
          <p:nvPr/>
        </p:nvPicPr>
        <p:blipFill>
          <a:blip r:embed="rId2"/>
          <a:stretch/>
        </p:blipFill>
        <p:spPr>
          <a:xfrm>
            <a:off x="0" y="2978280"/>
            <a:ext cx="421164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体绘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体绘制是指以体素作为基本单元，使用指定的模型和算法，由体数据直接生成三维虚拟实体影像的过程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体绘制可以表现实体的外部形状和内部细节，可以结合面绘制技术，在绘制质量、速度、交互性和信息表现互为补充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体绘制的几种办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LgrVolume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对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Volume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过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Volume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智能工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8" descr=""/>
          <p:cNvPicPr/>
          <p:nvPr/>
        </p:nvPicPr>
        <p:blipFill>
          <a:blip r:embed="rId1"/>
          <a:srcRect l="1357" t="23808" r="11152" b="2557"/>
          <a:stretch/>
        </p:blipFill>
        <p:spPr>
          <a:xfrm>
            <a:off x="3708360" y="3529080"/>
            <a:ext cx="485928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体绘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通过创建或初始化体绘制类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LgrVolume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对象。注意这里输入的数据将被转化成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te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类型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OBJ_NEW('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LgrVolu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 [,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ol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,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ol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,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ol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,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ol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]]] [,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PER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[, /NO_COPY]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su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&gt;[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LgrVolume::]In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ol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,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ol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,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ol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,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ol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]]] [,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PER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[, /NO_COPY]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LgrVolum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有多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属性，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0~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GB_table0~1, Opacity_table0~1, shader, clip_planes, ambient, X~ZRange, X~ZCoord_conv, ZBuff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体绘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Volum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该过程用于交互查看和操作体数据和等值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VOLU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ol, [, /BLOCK] [, GROUP=widget_id] [, /INTERPOLATE] [, /MODAL] [, RENDERER={0 | 1}] [, /REPLACE] [, SCALE=value] [, /TEST] [, XSIZE=pixels] [, YSIZE=pixe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使用存在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Volum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替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der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设置渲染环境，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G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默认）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Siz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Size: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设置绘制窗口的大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olate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设置差值方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e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设置体绘制的比例因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4" descr=""/>
          <p:cNvPicPr/>
          <p:nvPr/>
        </p:nvPicPr>
        <p:blipFill>
          <a:blip r:embed="rId1"/>
          <a:stretch/>
        </p:blipFill>
        <p:spPr>
          <a:xfrm>
            <a:off x="5292720" y="3429000"/>
            <a:ext cx="3708360" cy="32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支持的文件格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文本格式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f, Read_ascii, Prin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二进制格式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u, Read_binary, Writ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科学数据格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with the prefix "CDF_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DF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with the prefix "HDF_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DF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with the prefix "H5_" or "H5*_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DF-EO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with the prefix "EOS_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CD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with the prefix "NCDF_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ool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工具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ool(Intelligent Tools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拥有一些列交互功能的图形化智能工具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将数据分析、可视化任务和高品质图形表现结合在一起，集成一系列交互功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预建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lot, iSurface, iContour, iVolume, iMap, iImage, iVecto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等创建例程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onvertCoord, IRotate, iSave, iZoo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等各种程序例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oo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写成，既可作为独立程序交互使用，也可被其他程序调用或进行二次开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Volume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例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= FILEPATH('head.dat', SUBDIRECTORY = ['examples', 'data']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0 = READ_BINARY(file, DATA_DIMS = [80, 100, 57]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1 = BYTARR(80, 100, 57, /NOZERO) + 1B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1[0:39, *, 28:56] = 0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gbTable1 = [[BYTARR(256)], [BYTARR(256)], [BYTARR(256)]]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gbTable1[1, *] = [255, 255, 255]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acityTable1 = BYTARR(256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acityTable1[1] = 25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OLUME, data0, data1, 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GB_TABLE1 = rgbTable1, 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ACITY_TABLE1 = opacityTable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/AUTO_REN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olum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data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ph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混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从而实现切割效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5" descr=""/>
          <p:cNvPicPr/>
          <p:nvPr/>
        </p:nvPicPr>
        <p:blipFill>
          <a:blip r:embed="rId1"/>
          <a:stretch/>
        </p:blipFill>
        <p:spPr>
          <a:xfrm>
            <a:off x="5076720" y="3500280"/>
            <a:ext cx="3672000" cy="3357720"/>
          </a:xfrm>
          <a:prstGeom prst="rect">
            <a:avLst/>
          </a:prstGeom>
          <a:ln w="0">
            <a:noFill/>
          </a:ln>
        </p:spPr>
      </p:pic>
      <p:sp>
        <p:nvSpPr>
          <p:cNvPr id="431" name="Line 6"/>
          <p:cNvSpPr/>
          <p:nvPr/>
        </p:nvSpPr>
        <p:spPr>
          <a:xfrm flipV="1">
            <a:off x="6211800" y="6054480"/>
            <a:ext cx="606600" cy="190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7"/>
          <p:cNvSpPr/>
          <p:nvPr/>
        </p:nvSpPr>
        <p:spPr>
          <a:xfrm flipH="1" flipV="1">
            <a:off x="6300360" y="5371920"/>
            <a:ext cx="12600" cy="433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8"/>
          <p:cNvSpPr/>
          <p:nvPr/>
        </p:nvSpPr>
        <p:spPr>
          <a:xfrm flipH="1" flipV="1">
            <a:off x="5292360" y="5516640"/>
            <a:ext cx="863640" cy="72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直接图形法常用的图像操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_image/write_imag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读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写入图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显示图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VRD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读取窗口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Name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EPATH('rose.jpg', SUBDIRECTORY = ['examples', 'data'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e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_IMAGE(fileNam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v, smooth(image), true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tImage = tvrd(true=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_image, newfileName, ‘BMP’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t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并行的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L——FastDL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D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-X Corporati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公司基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开发的一款软件，它弥补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集群并行运算上面的不足，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计算能力发挥到最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针对并行的特点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D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提供了两个功能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用于处理各节点间互相独立的任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i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用于处理节点间需要传递消息的任务，与标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使用方法相同，以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IDL_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函数前缀，比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IDL_Sen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IDL_Receiv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IDL_AllReduce, MPIDL_Gather, MPIDL_Barrie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IDL_Bcas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个简单的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kD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arm = OBJ_NEW(‘taskdl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arm-&gt;open_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arm-&gt;spawn_wo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arm-&gt;add_task, ‘print, “Mysimple TaskFarm”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arm-&gt;close_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_destroy, oF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基本步骤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创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D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打开一个会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生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添加任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结束会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退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中的小技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尽量使用库函数而不是自己写函数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丰富的库函数加快开发进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库函数通过严格测试，更健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库函数内部做了优化，特别是对于矩阵运算，效率提高更明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以用一个函数完成则不用两个函数，如需同时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加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参数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, a=max(Matrix, min=b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可同时求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如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等。代替类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Max = a gt b?a:b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代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4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7128000" cy="2149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5" name="Rectangle 5"/>
          <p:cNvSpPr/>
          <p:nvPr/>
        </p:nvSpPr>
        <p:spPr>
          <a:xfrm>
            <a:off x="3851280" y="2276640"/>
            <a:ext cx="331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编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辅助 或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+/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中的小技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43040"/>
            <a:ext cx="8229600" cy="48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指针的运算效率高，但用完后记得及时释放。否则其占用内存会一直保持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关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代码习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= make_array(512, 512, 512, /float)  ;512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ata = data + 1.0;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需要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24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+= 1.0 ;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需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12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=TEMPORARY(data)+1.0 ;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需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12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语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效率都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高，节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12M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内存，避免内存申请失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特别提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不是逻辑判断，而是取最小和最大，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=a&lt;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=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=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不是逻辑判断，而是取最小和最大赋给左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=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T=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=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=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=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三目运算符 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语言之比较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c=4; c = (c&lt;5? c:5);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 printf(“%d\n”, c);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=4 &amp; c = (c&lt;5 ? c : 5) &amp; print, c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5"/>
          <p:cNvSpPr/>
          <p:nvPr/>
        </p:nvSpPr>
        <p:spPr>
          <a:xfrm>
            <a:off x="611280" y="4941720"/>
            <a:ext cx="7489800" cy="6426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&lt;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意思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当中取最小的，故结果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，偶数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值，为假，故最终结果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 正确方法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= (c gt 5 ? c : 5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6"/>
          <p:cNvSpPr/>
          <p:nvPr/>
        </p:nvSpPr>
        <p:spPr>
          <a:xfrm>
            <a:off x="2771640" y="4365720"/>
            <a:ext cx="576360" cy="3888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进一步学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经常用帮助。只需敲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即调出帮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外加一个空格和你想查的关键词，如“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Plot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即到你想查阅的主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参考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L Programming Technique. David Fannin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大师的经典巨著。从基础到应用，数据读取到可视化，从直接图形法到对象图形法，从代码格式到编程习惯，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作了全方位阐述。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fanning.com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最近上不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Development with IDL. Ronn Klin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适合有一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基础的使用。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rlkling.com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Graphics with IDL. Ronn Klin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着重介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视化方面的编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官方培训教程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Introduction to IDL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初级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Intermediate Programming and Analysis in IDL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中级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Advanced Topics in IDL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高级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天文学中的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文学中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DL Astronomy User's Library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dlastro.gsfc.nasa.gov/homepage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olarSoftWare (SSW) system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lmsal.com/solarsoft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图像处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提供了具有强大的图像处理能力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支持多种文件格式，只要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d(Write)_Image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两个函数，即可读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支持的任何图像文件。也可以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alog_Read(Write)_Image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交互读取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V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函数即可显示图像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提供了方便的傅里叶变化，小波变换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ugh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变换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don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变换等，各种图像增强滤波操作，形态学操作，图像分割、识别等丰富的图像处理和分析函数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图像也是数组，所以各种可以处理数组的函数也可以用于图像数据的处理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0"/>
          <p:cNvGrpSpPr/>
          <p:nvPr/>
        </p:nvGrpSpPr>
        <p:grpSpPr>
          <a:xfrm>
            <a:off x="453960" y="4915080"/>
            <a:ext cx="8439120" cy="1682640"/>
            <a:chOff x="453960" y="4915080"/>
            <a:chExt cx="8439120" cy="1682640"/>
          </a:xfrm>
        </p:grpSpPr>
        <p:pic>
          <p:nvPicPr>
            <p:cNvPr id="103" name="Picture 4" descr=""/>
            <p:cNvPicPr/>
            <p:nvPr/>
          </p:nvPicPr>
          <p:blipFill>
            <a:blip r:embed="rId1"/>
            <a:stretch/>
          </p:blipFill>
          <p:spPr>
            <a:xfrm>
              <a:off x="2557440" y="4915080"/>
              <a:ext cx="6335640" cy="16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5" descr=""/>
            <p:cNvPicPr/>
            <p:nvPr/>
          </p:nvPicPr>
          <p:blipFill>
            <a:blip r:embed="rId2"/>
            <a:stretch/>
          </p:blipFill>
          <p:spPr>
            <a:xfrm>
              <a:off x="453960" y="4916520"/>
              <a:ext cx="2135160" cy="16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Rectangle 6"/>
            <p:cNvSpPr/>
            <p:nvPr/>
          </p:nvSpPr>
          <p:spPr>
            <a:xfrm>
              <a:off x="2629080" y="5143320"/>
              <a:ext cx="208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SMOOTH(image, [1, 1, 21]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7"/>
            <p:cNvSpPr/>
            <p:nvPr/>
          </p:nvSpPr>
          <p:spPr>
            <a:xfrm>
              <a:off x="4716360" y="5143320"/>
              <a:ext cx="216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SMOOTH(image, [1, 21, 1]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8"/>
            <p:cNvSpPr/>
            <p:nvPr/>
          </p:nvSpPr>
          <p:spPr>
            <a:xfrm>
              <a:off x="6804000" y="5143320"/>
              <a:ext cx="208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SMOOTH(image, [1, 5, 5])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>
              <a:off x="468360" y="5143320"/>
              <a:ext cx="208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00"/>
                  </a:solidFill>
                  <a:latin typeface="Arial"/>
                </a:rPr>
                <a:t>原图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谢谢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支持的图像格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55640" y="1628640"/>
          <a:ext cx="7632720" cy="4637160"/>
        </p:xfrm>
        <a:graphic>
          <a:graphicData uri="http://schemas.openxmlformats.org/drawingml/2006/table">
            <a:tbl>
              <a:tblPr/>
              <a:tblGrid>
                <a:gridCol w="3252960"/>
                <a:gridCol w="4379760"/>
              </a:tblGrid>
              <a:tr h="534960">
                <a:tc gridSpan="2"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L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支持的图像格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032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格式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描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MP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 Bitmap format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COM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ital Imaging and Communications in Medicine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TIFF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FF file with tags containing geographic data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F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cs Interchange Format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file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file version 3.3 format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PEG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int Photographic Experts Group format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PEG 2000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PEG 2000 format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ion JPEG2000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ion JPEG2000 format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L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支持的图像格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826920" y="1413000"/>
          <a:ext cx="7848720" cy="4852800"/>
        </p:xfrm>
        <a:graphic>
          <a:graphicData uri="http://schemas.openxmlformats.org/drawingml/2006/table">
            <a:tbl>
              <a:tblPr/>
              <a:tblGrid>
                <a:gridCol w="3062520"/>
                <a:gridCol w="4786200"/>
              </a:tblGrid>
              <a:tr h="442440">
                <a:tc gridSpan="2"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L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支持的图像格式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续表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t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EG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ing Picture Experts Group format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SID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-resolution Seamless Image Database format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IF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AR Raster Interchange Format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intosh version 2 PICT files (bitmap only)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NG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able Network Graphics format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M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M/PGM format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F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 Raster File format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FF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bit or 24-bit Tagged Image File format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11 Bitmap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11 Bitmap format used for reading bitmaps for IDL widget button labels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WD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Windows Dump format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08:42:45Z</dcterms:created>
  <dc:creator>WUHONG</dc:creator>
  <dc:description/>
  <dc:language>en-US</dc:language>
  <cp:lastModifiedBy>vis</cp:lastModifiedBy>
  <dcterms:modified xsi:type="dcterms:W3CDTF">2012-11-09T01:39:11Z</dcterms:modified>
  <cp:revision>35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