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E4E-EEB8-4EF7-B9EA-02651547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3A7-5910-4CAB-A5FE-0DBB1689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arm-&gt;setStage, STAGE=stag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所有小于等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任务，但任务还是会根据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执行完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arm-&gt;add_task_to_all, TASK[,STAGE=stage] add task to all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4D0C-F99A-4936-81E6-50E0EF35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怎么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运行程序之前先要做一点准备工作：可用节点的节点名和在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首先要在自己的目录下准备两个文本文件，一个用来记录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用的节点的节点名，另一个记录着可用节点的节点名和在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，这个数通常和该节点拥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核的数量相等，但也可以小于或大于这个数，只是这样运行起来效率可能没那么高。比如本来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核，但是你指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，可能就有浪费，或者你指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进程，可能就有一半进程需要跟另一半进程串行执行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比如我在自己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目录下建两个文本文件，分别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d.hos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里边的记录如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然后建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的运行环境，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dboo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启动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选项指定使用的节点数，一共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个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指定记录节点的文件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r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指定使用的安全协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这样就可以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程序，运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程序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mpid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命令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machine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选项指定刚才我们建立的那个记录着节点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Nam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该节点上可开启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的最大数量，该数量不能超过前面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，冒号后面指定的数量之和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先介绍一下程序运行的机器环境的逻辑结构：（最长见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集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节点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是一个对称多处理机，其特点是节点上装有一组处理器（多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之间是平等关系，共享内存子系统和总线结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最基本组成部分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extr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= [‘v3903’, ‘v3904’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于不太懂并行的听众来说，最迷惑、最期望听到什么呢？应该是怎么指定节点，怎么分配任务。这两个问题明白了，才会安心地，跟着思考下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891-11B1-4469-AAF4-3FE2E38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824-561C-45C7-9D83-4A94EAE8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6BC-32FE-4BF6-ABD5-952EBEAF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615-FF49-4D4A-B957-F9621DDE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C15-91E7-45C0-B3D6-F5CC760B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3EE-009D-4D46-A219-52D92A2F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52F-DC7E-428D-B963-130A7E5E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9BE-728A-4B72-9591-C32FBFB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F6D-A0BE-4793-A498-F9DB54EF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4E4-5458-4ECB-B07F-6CD92947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4DF-3713-4C2D-8754-B80A1DD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837-7719-4D2F-823B-694D308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81A-C0E0-45F1-AD98-4774546B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xcorp.com/products/FastDL/index.php" TargetMode="External"/><Relationship Id="rId2" Type="http://schemas.openxmlformats.org/officeDocument/2006/relationships/hyperlink" Target="http://www.txcorp.com/products/FastDL/index.php" TargetMode="External"/><Relationship Id="rId3" Type="http://schemas.openxmlformats.org/officeDocument/2006/relationships/hyperlink" Target="http://www.txcorp.com/products/FastDL/fastdl_documentation.php" TargetMode="External"/><Relationship Id="rId4" Type="http://schemas.openxmlformats.org/officeDocument/2006/relationships/hyperlink" Target="http://www.txcorp.com/products/FastDL/fastdl_documentation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jpeg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image" Target="../media/image8.jpe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image" Target="../media/image8.jpeg"/><Relationship Id="rId36" Type="http://schemas.openxmlformats.org/officeDocument/2006/relationships/image" Target="../media/image8.jpeg"/><Relationship Id="rId37" Type="http://schemas.openxmlformats.org/officeDocument/2006/relationships/image" Target="../media/image8.jpe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8.jpeg"/><Relationship Id="rId46" Type="http://schemas.openxmlformats.org/officeDocument/2006/relationships/image" Target="../media/image8.jpe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image" Target="../media/image8.jpeg"/><Relationship Id="rId55" Type="http://schemas.openxmlformats.org/officeDocument/2006/relationships/image" Target="../media/image8.jpeg"/><Relationship Id="rId56" Type="http://schemas.openxmlformats.org/officeDocument/2006/relationships/image" Target="../media/image9.png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76">
                  <a:alpha val="25098"/>
                </a:srgbClr>
              </a:gs>
              <a:gs pos="100000">
                <a:srgbClr val="0000ff">
                  <a:alpha val="24313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1989000"/>
            <a:ext cx="9144000" cy="38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ID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基础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Fast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科院计算机网络信息中心 超级计算中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茂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xiemaojin@scca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066680" y="3352680"/>
            <a:ext cx="3672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13520" y="5113440"/>
            <a:ext cx="39304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会话路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其会话路径，决定其输出数据的存放路径。默认是启动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话的路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若不能写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则尝试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节点创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不成功，则查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TASKDL2_SESSIONROOT/taskdl_sess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该路径可以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ess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时候通过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_di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ou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出不是输出到你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nod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屏幕上，而是以日志的形式存储在会话路径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私有队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arm-&gt;spawn_worker, QUEUEID = queu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时候，默认会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que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接收任务；也可以通过关键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UEI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指定其私有队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优先处理其私有队列中的任务。若其私有队列中任务全部处理完毕，则开始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que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些任务之间有依赖关系，比如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入是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输出，这时候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依赖于任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比如渲染一个动画，渲染一幁幁图像时，可以一起进行，但到最后合成动画的时，则必须等所有图像都已经渲染出来才能开始。“任务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stage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解决此类问题的方法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i=0, nframes-1 do $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d_task,  ‘render_image,’+string(i), STAGE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d_task, ‘encode_movie’, STAGE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arm-&gt;advance_stage, STAGE=2 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步步提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直到完成所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值小于等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所有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，另一种组织任务的及其顺序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create_group, GROUP=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create_group, GROUP=‘encode_movi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group_dependency, ‘encode_movie’, 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=0, nframe-1 do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add_task, ‘render_image,’+string(i), GROUP=‘ren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rm-&gt;add_task, ‘create_movie’, GROUP=‘encode_movi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会检查循环依赖，比如你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依赖，这样不会报错，但其结果是不确定的，这点得靠用户自己来确保没有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问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求输入密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运行远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求输入密码。请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密码验证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780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8880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盘节点配置无密码验证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197000"/>
            <a:ext cx="8064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输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h-keygen –t d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更改文件夹及文件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at ~/.ssh/id_dsa.pub &gt;&gt; ~/.ssh/authorized_key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hmod 700 ~/.s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chmod 600 ~/.ssh/authorized_key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测试一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bash  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更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环境变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x@xxx] ssh localhost  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果不弹出要求输入密码的信息，则配置成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45728"/>
          <a:stretch/>
        </p:blipFill>
        <p:spPr>
          <a:xfrm>
            <a:off x="755640" y="1557360"/>
            <a:ext cx="64818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见问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—IDL lic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w_work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可以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license — oFarm-&gt;spanw_worker, /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license 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运行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译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s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，注意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_a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rm-&gt;add_task, ‘restore, “myProc.sav”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2276640"/>
            <a:ext cx="1439640" cy="502920"/>
          </a:xfrm>
          <a:prstGeom prst="rect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4005360"/>
            <a:ext cx="3745080" cy="503280"/>
          </a:xfrm>
          <a:prstGeom prst="rect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520" y="5157720"/>
            <a:ext cx="74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的只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，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不需要都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必须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run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licen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性能提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让每个核都跑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mulNode, worker_hosts=wh, kernel=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=0, k*(n_elements(wh))-1 do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rm-&gt;spawn_worker, host = wh[i/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Node, worker_host=[‘v3901’, ‘v3902’, ’v3903’], $ kernel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8360" y="1341360"/>
          <a:ext cx="8424720" cy="5083200"/>
        </p:xfrm>
        <a:graphic>
          <a:graphicData uri="http://schemas.openxmlformats.org/drawingml/2006/table">
            <a:tbl>
              <a:tblPr/>
              <a:tblGrid>
                <a:gridCol w="1942920"/>
                <a:gridCol w="3745080"/>
                <a:gridCol w="273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到一个现有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n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开连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_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所有队列的所有任务移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会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,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_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关闭会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wn_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一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, /RSH, IDLCMD,/FULL,/TUNNEL,/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l_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中断杀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当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创建一个任务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_depend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述任务组的依赖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HEIG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341360"/>
          <a:ext cx="8229600" cy="4975200"/>
        </p:xfrm>
        <a:graphic>
          <a:graphicData uri="http://schemas.openxmlformats.org/drawingml/2006/table">
            <a:tbl>
              <a:tblPr/>
              <a:tblGrid>
                <a:gridCol w="2243160"/>
                <a:gridCol w="3600360"/>
                <a:gridCol w="238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创建一个任务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移除一个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启动时，将其连到一个已经存在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得到与当前对象相关的队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_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显示当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队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que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数组方式返回当前所有活跃队列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_que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列出指定队列的所有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,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_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释放所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值小于等于指定值的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_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值一步一步提升到关键字指定的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-X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标：解决集群级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行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564000" cy="285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z500___loop___2118.gif"/>
          <p:cNvPicPr/>
          <p:nvPr/>
        </p:nvPicPr>
        <p:blipFill>
          <a:blip r:embed="rId2"/>
          <a:stretch/>
        </p:blipFill>
        <p:spPr>
          <a:xfrm>
            <a:off x="1908000" y="4019400"/>
            <a:ext cx="3672000" cy="283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401240" y="552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气预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AP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列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41600"/>
          <a:ext cx="8229600" cy="4595760"/>
        </p:xfrm>
        <a:graphic>
          <a:graphicData uri="http://schemas.openxmlformats.org/drawingml/2006/table">
            <a:tbl>
              <a:tblPr/>
              <a:tblGrid>
                <a:gridCol w="2243160"/>
                <a:gridCol w="3524400"/>
                <a:gridCol w="2462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指定队列中添加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_task_to_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给所有队列添加一个指定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指定队列中删除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UEI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返回下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_for_s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返回私有队列中的下一个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h_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的退出状态执行成功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是失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让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会话进入无限循环，直到收到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’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任务结束循环。循环过程中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_task(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断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l Serve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轮询并执行任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EXCLU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用情况：各个子任务之间牵扯多，处理时各个子任务之间需要互相通信，即所谓的消息传递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消息传递接口之意，是处理这类并行问题的工业标准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ssage Passing Inte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标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异，函数一一对应，比如比如标准的发送消息的函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将加上前缀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_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IDL_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mpidl –np n [-machinefile ./nodes] myfile.s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allreduce_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= mpidl_comm_rank() 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第几个进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oc=mpidl_comm_size()  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共有几个进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自己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总的进程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o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决定自己要做哪个子任务，做完后发送给某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自己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某个值，比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能还要负责收集其他进程的结果，将结果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1120" y="345960"/>
            <a:ext cx="8964720" cy="6222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的运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63700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准备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DL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运行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981000"/>
            <a:ext cx="3887640" cy="432000"/>
          </a:xfrm>
          <a:prstGeom prst="wedgeRectCallout">
            <a:avLst>
              <a:gd name="adj1" fmla="val -68129"/>
              <a:gd name="adj2" fmla="val -35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用的节点的节点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1989000"/>
            <a:ext cx="6408720" cy="432000"/>
          </a:xfrm>
          <a:prstGeom prst="wedgeRectCallout">
            <a:avLst>
              <a:gd name="adj1" fmla="val -58768"/>
              <a:gd name="adj2" fmla="val -34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用节点的节点名和在该节点上可开启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997360"/>
            <a:ext cx="871380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-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介绍页和文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xcorp.com/products/FastDL/index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xcorp.com/products/FastDL/fastdl_documentation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集群的逻辑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341360"/>
            <a:ext cx="1042920" cy="520560"/>
          </a:xfrm>
          <a:prstGeom prst="rect">
            <a:avLst/>
          </a:prstGeom>
          <a:solidFill>
            <a:srgbClr val="ffcc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26828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643280" y="404640"/>
            <a:ext cx="216000" cy="7848720"/>
          </a:xfrm>
          <a:prstGeom prst="flowChartManualOpe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653000"/>
            <a:ext cx="230364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线及内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26920" y="2347920"/>
            <a:ext cx="2881440" cy="1873080"/>
            <a:chOff x="826920" y="2347920"/>
            <a:chExt cx="2881440" cy="1873080"/>
          </a:xfrm>
        </p:grpSpPr>
        <p:sp>
          <p:nvSpPr>
            <p:cNvPr id="66" name=""/>
            <p:cNvSpPr/>
            <p:nvPr/>
          </p:nvSpPr>
          <p:spPr>
            <a:xfrm>
              <a:off x="826920" y="2349360"/>
              <a:ext cx="2881440" cy="1871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01800" y="2347920"/>
              <a:ext cx="1006560" cy="1873080"/>
              <a:chOff x="1801800" y="2347920"/>
              <a:chExt cx="1006560" cy="1873080"/>
            </a:xfrm>
          </p:grpSpPr>
          <p:sp>
            <p:nvSpPr>
              <p:cNvPr id="68" name=""/>
              <p:cNvSpPr/>
              <p:nvPr/>
            </p:nvSpPr>
            <p:spPr>
              <a:xfrm rot="5400000">
                <a:off x="1330920" y="2959920"/>
                <a:ext cx="1873080" cy="649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5400000">
                <a:off x="2484720" y="2673000"/>
                <a:ext cx="360000" cy="287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2484720" y="3607920"/>
                <a:ext cx="360000" cy="287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1765440" y="3607560"/>
                <a:ext cx="360000" cy="287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5400000">
                <a:off x="1765440" y="2672640"/>
                <a:ext cx="360000" cy="287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>
              <a:off x="936720" y="3357720"/>
              <a:ext cx="7920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826920" y="2349360"/>
              <a:ext cx="100836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8"/>
            <a:stretch/>
          </p:blipFill>
          <p:spPr>
            <a:xfrm>
              <a:off x="826920" y="3284640"/>
              <a:ext cx="1008360" cy="89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2700360" y="2349360"/>
              <a:ext cx="10080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0"/>
            <a:stretch/>
          </p:blipFill>
          <p:spPr>
            <a:xfrm>
              <a:off x="2700360" y="3284640"/>
              <a:ext cx="100800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205080" y="3860640"/>
            <a:ext cx="28728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116000" y="1773000"/>
            <a:ext cx="21600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1773360"/>
            <a:ext cx="14436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58136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24360" y="3068640"/>
            <a:ext cx="1800000" cy="1184040"/>
            <a:chOff x="3924360" y="3068640"/>
            <a:chExt cx="1800000" cy="1184040"/>
          </a:xfrm>
        </p:grpSpPr>
        <p:sp>
          <p:nvSpPr>
            <p:cNvPr id="83" name=""/>
            <p:cNvSpPr/>
            <p:nvPr/>
          </p:nvSpPr>
          <p:spPr>
            <a:xfrm>
              <a:off x="3924360" y="3070080"/>
              <a:ext cx="1800000" cy="1182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33480" y="3068640"/>
              <a:ext cx="628560" cy="1184040"/>
              <a:chOff x="4533480" y="3068640"/>
              <a:chExt cx="628560" cy="1184040"/>
            </a:xfrm>
          </p:grpSpPr>
          <p:sp>
            <p:nvSpPr>
              <p:cNvPr id="85" name=""/>
              <p:cNvSpPr/>
              <p:nvPr/>
            </p:nvSpPr>
            <p:spPr>
              <a:xfrm rot="5400000">
                <a:off x="4232520" y="3457800"/>
                <a:ext cx="1184040" cy="4053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400000">
                <a:off x="4958640" y="3275280"/>
                <a:ext cx="227520" cy="1792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5400000">
                <a:off x="4958640" y="3866400"/>
                <a:ext cx="227520" cy="179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400000">
                <a:off x="4509360" y="3866040"/>
                <a:ext cx="227520" cy="1796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5400000">
                <a:off x="4509360" y="3274920"/>
                <a:ext cx="227520" cy="17964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H="1">
              <a:off x="3992400" y="3706560"/>
              <a:ext cx="494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6"/>
            <a:stretch/>
          </p:blipFill>
          <p:spPr>
            <a:xfrm>
              <a:off x="3924360" y="3070080"/>
              <a:ext cx="630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7"/>
            <a:stretch/>
          </p:blipFill>
          <p:spPr>
            <a:xfrm>
              <a:off x="3924360" y="3660840"/>
              <a:ext cx="630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8"/>
            <a:stretch/>
          </p:blipFill>
          <p:spPr>
            <a:xfrm>
              <a:off x="5094000" y="3070080"/>
              <a:ext cx="630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9"/>
            <a:stretch/>
          </p:blipFill>
          <p:spPr>
            <a:xfrm>
              <a:off x="5094000" y="3660840"/>
              <a:ext cx="630000" cy="56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940360" y="3500280"/>
            <a:ext cx="1008000" cy="752760"/>
            <a:chOff x="5940360" y="3500280"/>
            <a:chExt cx="1008000" cy="752760"/>
          </a:xfrm>
        </p:grpSpPr>
        <p:sp>
          <p:nvSpPr>
            <p:cNvPr id="96" name=""/>
            <p:cNvSpPr/>
            <p:nvPr/>
          </p:nvSpPr>
          <p:spPr>
            <a:xfrm>
              <a:off x="5940360" y="3501000"/>
              <a:ext cx="1008000" cy="751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282000" y="3500280"/>
              <a:ext cx="351720" cy="752760"/>
              <a:chOff x="6282000" y="3500280"/>
              <a:chExt cx="351720" cy="752760"/>
            </a:xfrm>
          </p:grpSpPr>
          <p:sp>
            <p:nvSpPr>
              <p:cNvPr id="98" name=""/>
              <p:cNvSpPr/>
              <p:nvPr/>
            </p:nvSpPr>
            <p:spPr>
              <a:xfrm rot="5400000">
                <a:off x="6068160" y="3763080"/>
                <a:ext cx="752760" cy="22716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6510960" y="3638160"/>
                <a:ext cx="144720" cy="10044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400000">
                <a:off x="6510960" y="4014000"/>
                <a:ext cx="144720" cy="1004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6259680" y="4014000"/>
                <a:ext cx="144720" cy="10044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6259680" y="3638160"/>
                <a:ext cx="144720" cy="10044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H="1">
              <a:off x="5978160" y="3905640"/>
              <a:ext cx="27684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5940360" y="3501000"/>
              <a:ext cx="3528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5940360" y="3876840"/>
              <a:ext cx="3528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6595200" y="3501000"/>
              <a:ext cx="3528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6595200" y="3876840"/>
              <a:ext cx="35280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7093080" y="3716280"/>
            <a:ext cx="576000" cy="536760"/>
            <a:chOff x="7093080" y="3716280"/>
            <a:chExt cx="576000" cy="536760"/>
          </a:xfrm>
        </p:grpSpPr>
        <p:sp>
          <p:nvSpPr>
            <p:cNvPr id="109" name=""/>
            <p:cNvSpPr/>
            <p:nvPr/>
          </p:nvSpPr>
          <p:spPr>
            <a:xfrm>
              <a:off x="7093080" y="3716640"/>
              <a:ext cx="576000" cy="536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287840" y="3716280"/>
              <a:ext cx="200880" cy="536760"/>
              <a:chOff x="7287840" y="3716280"/>
              <a:chExt cx="200880" cy="536760"/>
            </a:xfrm>
          </p:grpSpPr>
          <p:sp>
            <p:nvSpPr>
              <p:cNvPr id="111" name=""/>
              <p:cNvSpPr/>
              <p:nvPr/>
            </p:nvSpPr>
            <p:spPr>
              <a:xfrm rot="5400000">
                <a:off x="7112160" y="3919680"/>
                <a:ext cx="536760" cy="12960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408440" y="3821760"/>
                <a:ext cx="102960" cy="5724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7408440" y="4089600"/>
                <a:ext cx="102960" cy="5724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400000">
                <a:off x="7264800" y="4089600"/>
                <a:ext cx="102960" cy="5724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400000">
                <a:off x="7264800" y="3821760"/>
                <a:ext cx="102960" cy="5724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7114680" y="4005360"/>
              <a:ext cx="158400" cy="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4"/>
            <a:stretch/>
          </p:blipFill>
          <p:spPr>
            <a:xfrm>
              <a:off x="7093080" y="3716640"/>
              <a:ext cx="20160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5"/>
            <a:stretch/>
          </p:blipFill>
          <p:spPr>
            <a:xfrm>
              <a:off x="7093080" y="3984840"/>
              <a:ext cx="20160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6"/>
            <a:stretch/>
          </p:blipFill>
          <p:spPr>
            <a:xfrm>
              <a:off x="7467480" y="3716640"/>
              <a:ext cx="201600" cy="2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7"/>
            <a:stretch/>
          </p:blipFill>
          <p:spPr>
            <a:xfrm>
              <a:off x="7467480" y="3984840"/>
              <a:ext cx="201600" cy="25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7740720" y="3860640"/>
            <a:ext cx="431640" cy="392400"/>
            <a:chOff x="7740720" y="3860640"/>
            <a:chExt cx="431640" cy="392400"/>
          </a:xfrm>
        </p:grpSpPr>
        <p:sp>
          <p:nvSpPr>
            <p:cNvPr id="122" name=""/>
            <p:cNvSpPr/>
            <p:nvPr/>
          </p:nvSpPr>
          <p:spPr>
            <a:xfrm>
              <a:off x="7740720" y="3861000"/>
              <a:ext cx="431640" cy="392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886880" y="3860640"/>
              <a:ext cx="150480" cy="392400"/>
              <a:chOff x="7886880" y="3860640"/>
              <a:chExt cx="150480" cy="392400"/>
            </a:xfrm>
          </p:grpSpPr>
          <p:sp>
            <p:nvSpPr>
              <p:cNvPr id="124" name=""/>
              <p:cNvSpPr/>
              <p:nvPr/>
            </p:nvSpPr>
            <p:spPr>
              <a:xfrm rot="5400000">
                <a:off x="7760160" y="4008240"/>
                <a:ext cx="392400" cy="9720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7978320" y="3937320"/>
                <a:ext cx="75240" cy="4284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978320" y="4133160"/>
                <a:ext cx="75240" cy="4284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5400000">
                <a:off x="7870680" y="4133160"/>
                <a:ext cx="75240" cy="4284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00000">
                <a:off x="7870680" y="3937320"/>
                <a:ext cx="75240" cy="4284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flipH="1">
              <a:off x="7756560" y="4071960"/>
              <a:ext cx="11844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43"/>
            <a:stretch/>
          </p:blipFill>
          <p:spPr>
            <a:xfrm>
              <a:off x="7740720" y="3861000"/>
              <a:ext cx="1512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4"/>
            <a:stretch/>
          </p:blipFill>
          <p:spPr>
            <a:xfrm>
              <a:off x="7740720" y="4056840"/>
              <a:ext cx="151200" cy="1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5"/>
            <a:stretch/>
          </p:blipFill>
          <p:spPr>
            <a:xfrm>
              <a:off x="8021160" y="3861000"/>
              <a:ext cx="15120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6"/>
            <a:stretch/>
          </p:blipFill>
          <p:spPr>
            <a:xfrm>
              <a:off x="8021160" y="4056840"/>
              <a:ext cx="151200" cy="1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8244000" y="3933720"/>
            <a:ext cx="360360" cy="319320"/>
            <a:chOff x="8244000" y="3933720"/>
            <a:chExt cx="360360" cy="319320"/>
          </a:xfrm>
        </p:grpSpPr>
        <p:sp>
          <p:nvSpPr>
            <p:cNvPr id="135" name=""/>
            <p:cNvSpPr/>
            <p:nvPr/>
          </p:nvSpPr>
          <p:spPr>
            <a:xfrm>
              <a:off x="8244000" y="3934080"/>
              <a:ext cx="360360" cy="318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66040" y="3933720"/>
              <a:ext cx="125280" cy="319320"/>
              <a:chOff x="8366040" y="3933720"/>
              <a:chExt cx="125280" cy="319320"/>
            </a:xfrm>
          </p:grpSpPr>
          <p:sp>
            <p:nvSpPr>
              <p:cNvPr id="137" name=""/>
              <p:cNvSpPr/>
              <p:nvPr/>
            </p:nvSpPr>
            <p:spPr>
              <a:xfrm rot="5400000">
                <a:off x="8264160" y="4052880"/>
                <a:ext cx="319320" cy="8100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8442720" y="3995280"/>
                <a:ext cx="61200" cy="356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8442720" y="4155120"/>
                <a:ext cx="61200" cy="3564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8353080" y="4155120"/>
                <a:ext cx="61200" cy="356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8353080" y="3995280"/>
                <a:ext cx="61200" cy="3564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8257320" y="4105800"/>
              <a:ext cx="9900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52"/>
            <a:stretch/>
          </p:blipFill>
          <p:spPr>
            <a:xfrm>
              <a:off x="8244000" y="3934080"/>
              <a:ext cx="126000" cy="1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3"/>
            <a:stretch/>
          </p:blipFill>
          <p:spPr>
            <a:xfrm>
              <a:off x="8244000" y="4093560"/>
              <a:ext cx="12600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54"/>
            <a:stretch/>
          </p:blipFill>
          <p:spPr>
            <a:xfrm>
              <a:off x="8478360" y="3934080"/>
              <a:ext cx="126000" cy="1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5"/>
            <a:stretch/>
          </p:blipFill>
          <p:spPr>
            <a:xfrm>
              <a:off x="8478360" y="4093560"/>
              <a:ext cx="126000" cy="1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 flipH="1">
            <a:off x="1834920" y="3789360"/>
            <a:ext cx="433080" cy="93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5013360"/>
            <a:ext cx="1042920" cy="58140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4365720"/>
            <a:ext cx="287280" cy="71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4240" y="5392800"/>
            <a:ext cx="42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称多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metrical Multi-Processin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59640" y="4743360"/>
            <a:ext cx="792000" cy="1133280"/>
            <a:chOff x="6659640" y="4743360"/>
            <a:chExt cx="792000" cy="1133280"/>
          </a:xfrm>
        </p:grpSpPr>
        <p:sp>
          <p:nvSpPr>
            <p:cNvPr id="152" name=""/>
            <p:cNvSpPr/>
            <p:nvPr/>
          </p:nvSpPr>
          <p:spPr>
            <a:xfrm>
              <a:off x="6659640" y="5562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59640" y="541800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527364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9640" y="5128920"/>
              <a:ext cx="792000" cy="31464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59640" y="4986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88772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4743360"/>
              <a:ext cx="792000" cy="31428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877080" y="4383000"/>
            <a:ext cx="358920" cy="486000"/>
          </a:xfrm>
          <a:prstGeom prst="flowChartManualOperation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5084640"/>
            <a:ext cx="1042920" cy="1068840"/>
          </a:xfrm>
          <a:prstGeom prst="rect">
            <a:avLst/>
          </a:prstGeom>
          <a:solidFill>
            <a:srgbClr val="ffcc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磁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阵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229360"/>
            <a:ext cx="64764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还是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紧耦合：子任务之间互相牵扯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p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松耦合：子任务之间互相牵扯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ask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z500___loop___2118.gif"/>
          <p:cNvPicPr/>
          <p:nvPr/>
        </p:nvPicPr>
        <p:blipFill>
          <a:blip r:embed="rId1"/>
          <a:stretch/>
        </p:blipFill>
        <p:spPr>
          <a:xfrm>
            <a:off x="971640" y="3500280"/>
            <a:ext cx="2952720" cy="2283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71640" y="4651200"/>
            <a:ext cx="29527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3080" y="3500280"/>
            <a:ext cx="0" cy="2087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06760" y="5954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气预报：紧耦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各个区域之间互相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240360" cy="2950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88000" y="60213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文件夹下所有图像降噪：松耦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964720" cy="547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3500280"/>
            <a:ext cx="360036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1268280"/>
            <a:ext cx="4284720" cy="228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Compiled module: SHOWIM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Compiled module: HELLO_TASKD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&gt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ELLO_TASKDL, HOST=['v3903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Restored file: TASKDL__DEF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necting to tdl server on host localhost on port 4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 Task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Loaded DLM: JP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24360" y="3357720"/>
            <a:ext cx="3143520" cy="34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3860640"/>
            <a:ext cx="196848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205000"/>
            <a:ext cx="3095640" cy="36360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64360" y="2060640"/>
            <a:ext cx="1224000" cy="129708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4149720"/>
            <a:ext cx="2089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00280"/>
            <a:ext cx="129564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213000"/>
            <a:ext cx="37432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4508640"/>
            <a:ext cx="2158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5157720"/>
            <a:ext cx="19432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5373720"/>
            <a:ext cx="42847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务”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最基本的元素，它们是运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节点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令序列、例程及其参数和关键字，以一个字符串表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从一个节点启动（主节点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_new(“TaskDL”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初始化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对象，并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open_sessi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打开一个会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spawn_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方法启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到多个远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节点。该过程中，主节点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sh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sh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安全协议登陆远程主机，设置必要的环境变量，然后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节点上开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进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::add_task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方法添加任务到任务队列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服务器给各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派任务，当某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任务完成的时候，它就会收到新的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旦所有任务完成，用户可以关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例程，或者让它继续保持活跃给后续任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53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客户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负责收集和管理任务，负责跟踪各个任务及其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一个任务，做完该任务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续给其分派别的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5280" y="2347920"/>
            <a:ext cx="1727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508464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08464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084640"/>
            <a:ext cx="72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2"/>
            <a:endCxn id="190" idx="0"/>
          </p:cNvCxnSpPr>
          <p:nvPr/>
        </p:nvCxnSpPr>
        <p:spPr>
          <a:xfrm flipH="1">
            <a:off x="5363280" y="3211200"/>
            <a:ext cx="57564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92" idx="0"/>
          </p:cNvCxnSpPr>
          <p:nvPr/>
        </p:nvCxnSpPr>
        <p:spPr>
          <a:xfrm>
            <a:off x="5938560" y="3211200"/>
            <a:ext cx="64980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89" idx="2"/>
            <a:endCxn id="191" idx="0"/>
          </p:cNvCxnSpPr>
          <p:nvPr/>
        </p:nvCxnSpPr>
        <p:spPr>
          <a:xfrm>
            <a:off x="5938560" y="3211200"/>
            <a:ext cx="2018160" cy="1873800"/>
          </a:xfrm>
          <a:prstGeom prst="straightConnector1">
            <a:avLst/>
          </a:prstGeom>
          <a:ln w="2232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 rot="17184600">
            <a:off x="4761720" y="41018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4077000">
            <a:off x="5870520" y="4146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841600">
            <a:off x="6590160" y="3930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1916280"/>
            <a:ext cx="1512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队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815160" y="2254320"/>
            <a:ext cx="498600" cy="51120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2708280"/>
            <a:ext cx="43200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44000" y="2708280"/>
            <a:ext cx="4316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40720" y="2498400"/>
            <a:ext cx="298440" cy="15876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8213760" y="2509920"/>
            <a:ext cx="257040" cy="164880"/>
          </a:xfrm>
          <a:prstGeom prst="line">
            <a:avLst/>
          </a:prstGeom>
          <a:ln w="22320">
            <a:solidFill>
              <a:srgbClr val="ff00ff"/>
            </a:solidFill>
            <a:miter/>
            <a:headEnd len="lg" type="diamond" w="lg"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57340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的只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送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，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不需要都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必须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runtim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licen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任务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用任务队列管理任务，它维护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多个任务队列，并为每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护着一个私有队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顺序：先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派其私有队列任务，完成后分派默认队列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务在持续会话中执行，一个任务的结果可以作为下一个任务的输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外死亡或退出，其私有队列中的任务将挪到默认队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147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hello_task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 = OBJ_NEW(“taskdl”) 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open_session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会话：启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，创建默认任务队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spawn_worker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进程默认在本节点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ho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通过关键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程的远程节点名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= [‘v3904’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对于多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点，在本机指定多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更高效地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add_task, ‘print, “hello taskFarm”’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添加一个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任务是一到多个有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组成的字符串，比如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, session.sav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close_session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束一个会话，终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等到所有队列中的所有任务都完成才会终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ory, oFarm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8:42:45Z</dcterms:created>
  <dc:creator>xiemaojin</dc:creator>
  <dc:description/>
  <dc:language>en-US</dc:language>
  <cp:lastModifiedBy>xmj</cp:lastModifiedBy>
  <dcterms:modified xsi:type="dcterms:W3CDTF">2010-10-31T09:53:45Z</dcterms:modified>
  <cp:revision>3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