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zh-CN" sz="13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F38677-0F30-4CF8-91C9-F4D8F418F0D0}" type="slidenum">
              <a:rPr b="0" lang="zh-CN" sz="13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3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235C40-FB52-44D7-80FF-5315AE651717}" type="slidenum">
              <a:rPr b="0" lang="zh-CN" sz="13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3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533160" y="4861080"/>
            <a:ext cx="6118200" cy="4605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dentia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a comp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e pho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n be an hidden slide.  I just want to use this to do my own pla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have rearranged Cull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lecture slides slightly and add more slides.  This covers everything he covers in his first lecture (and more) but ma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will save the fun part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Levels of Organizati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at the end (so student can stay awake): I will show the internal stricture of the SS10/2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es to Patterson: You may want to edit the slides in your section or add extra slides to taylor your nee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Img"/>
          </p:nvPr>
        </p:nvSpPr>
        <p:spPr>
          <a:xfrm>
            <a:off x="1008000" y="65736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6979-05C4-4236-93D4-3C4052832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8EF5-E1BF-4946-AEAC-9696FF98A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DE93-275C-4CE8-AC64-F50C990B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0962-B036-4DEA-A6B7-5D864C503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0DE5-7F93-45AB-8A62-F1769B3BA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B72F-1091-48BD-B7B6-04DCD0E2C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6C11-374B-4F3D-BFEF-B30B13618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B069-138F-497E-AC0E-87F9C2E18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F7C1-FE40-4A1A-883B-7B930EFF3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1B66-7550-43C7-9767-D4F57EDD4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5579-B7B9-48A0-8EFB-EF3D46014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461B-3DF2-40A1-89D4-715E875D6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6B7-F20C-4794-9418-B5BF0980D6C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,  20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2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7A0-BC67-449D-819D-E4FE1054B62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同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8283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同步概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同步是在时间上强使各执行进程在某一点必须互相等待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用软件、硬件和固件的办法来实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同步语句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1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共享存储多处理器上求和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器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=Σ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S=0                                                     (2.3) lock(S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for all Pi where 0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-1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                        S=S+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.1) L=0                                              (2.4) unlock(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.2) for j=i to n step p do               end 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=L+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for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6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548-D613-4867-8EF6-274D075704A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440" y="3240"/>
            <a:ext cx="916488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419640" y="6093000"/>
            <a:ext cx="3019320" cy="22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826920" y="6381720"/>
            <a:ext cx="301968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1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553-57D8-4FB2-B6BB-3C0CF42827D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通讯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8283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共享存储多处理器使用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read(X,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write(X,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布存储多计算机使用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(X,i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(Y,j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讯语句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2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布存储多计算机上矩阵向量乘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处理器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,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=A[1..n,(i-1)r+1..ir]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=w[(i-1)r+1..ir]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=n/p, i=1~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保存乘积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 Compute z=B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 if i=1 then y=0 else receive(y,left) end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3) y=y+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4) send(y,righ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5) if i=1 then receive(y,lef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5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98F-FFD7-498C-8DCE-EA62DF01120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通讯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28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图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137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0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43F9-3047-449B-9B27-D3B33ABDC1CC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4920" y="97956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PRAM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51D-7B85-4D0A-BCB2-BD2CE81D8BF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tun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yllie197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年提出，又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D-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模型。有一个集中的共享存储器和一个指令控制器，通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/W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交换数据，隐式同步计算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结构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627280" y="3429000"/>
            <a:ext cx="3294000" cy="2736360"/>
            <a:chOff x="2627280" y="3429000"/>
            <a:chExt cx="3294000" cy="2736360"/>
          </a:xfrm>
        </p:grpSpPr>
        <p:sp>
          <p:nvSpPr>
            <p:cNvPr id="98" name="Rectangle 5"/>
            <p:cNvSpPr/>
            <p:nvPr/>
          </p:nvSpPr>
          <p:spPr>
            <a:xfrm>
              <a:off x="3450600" y="3429000"/>
              <a:ext cx="14558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 Unit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2627280" y="5121000"/>
              <a:ext cx="32940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connection Network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723040" y="4073400"/>
              <a:ext cx="482040" cy="1046520"/>
              <a:chOff x="2723040" y="4073400"/>
              <a:chExt cx="482040" cy="104652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723040" y="4325400"/>
                <a:ext cx="482040" cy="532080"/>
                <a:chOff x="2723040" y="4325400"/>
                <a:chExt cx="482040" cy="53208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723040" y="4325400"/>
                  <a:ext cx="482040" cy="53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Line 10"/>
                <p:cNvSpPr/>
                <p:nvPr/>
              </p:nvSpPr>
              <p:spPr>
                <a:xfrm flipV="1">
                  <a:off x="2723040" y="4570920"/>
                  <a:ext cx="48096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4" name="Line 11"/>
              <p:cNvSpPr/>
              <p:nvPr/>
            </p:nvSpPr>
            <p:spPr>
              <a:xfrm>
                <a:off x="2955240" y="4073400"/>
                <a:ext cx="1800" cy="25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05" name="Line 12"/>
              <p:cNvSpPr/>
              <p:nvPr/>
            </p:nvSpPr>
            <p:spPr>
              <a:xfrm>
                <a:off x="2957040" y="4863960"/>
                <a:ext cx="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Group 13"/>
            <p:cNvGrpSpPr/>
            <p:nvPr/>
          </p:nvGrpSpPr>
          <p:grpSpPr>
            <a:xfrm>
              <a:off x="3546720" y="4074120"/>
              <a:ext cx="481680" cy="1046520"/>
              <a:chOff x="3546720" y="4074120"/>
              <a:chExt cx="481680" cy="1046520"/>
            </a:xfrm>
          </p:grpSpPr>
          <p:grpSp>
            <p:nvGrpSpPr>
              <p:cNvPr id="107" name="Group 14"/>
              <p:cNvGrpSpPr/>
              <p:nvPr/>
            </p:nvGrpSpPr>
            <p:grpSpPr>
              <a:xfrm>
                <a:off x="3546720" y="4322880"/>
                <a:ext cx="481680" cy="538200"/>
                <a:chOff x="3546720" y="4322880"/>
                <a:chExt cx="481680" cy="53820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3546720" y="4322880"/>
                  <a:ext cx="481680" cy="538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Line 16"/>
                <p:cNvSpPr/>
                <p:nvPr/>
              </p:nvSpPr>
              <p:spPr>
                <a:xfrm flipV="1">
                  <a:off x="3546720" y="4573800"/>
                  <a:ext cx="480960" cy="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Line 17"/>
              <p:cNvSpPr/>
              <p:nvPr/>
            </p:nvSpPr>
            <p:spPr>
              <a:xfrm>
                <a:off x="3779640" y="4074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>
                <a:off x="3779640" y="4866840"/>
                <a:ext cx="180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4370040" y="4074120"/>
              <a:ext cx="482040" cy="1046520"/>
              <a:chOff x="4370040" y="4074120"/>
              <a:chExt cx="482040" cy="1046520"/>
            </a:xfrm>
          </p:grpSpPr>
          <p:grpSp>
            <p:nvGrpSpPr>
              <p:cNvPr id="113" name="Group 20"/>
              <p:cNvGrpSpPr/>
              <p:nvPr/>
            </p:nvGrpSpPr>
            <p:grpSpPr>
              <a:xfrm>
                <a:off x="4370040" y="4322880"/>
                <a:ext cx="482040" cy="538200"/>
                <a:chOff x="4370040" y="4322880"/>
                <a:chExt cx="482040" cy="538200"/>
              </a:xfrm>
            </p:grpSpPr>
            <p:sp>
              <p:nvSpPr>
                <p:cNvPr id="114" name="Rectangle 21"/>
                <p:cNvSpPr/>
                <p:nvPr/>
              </p:nvSpPr>
              <p:spPr>
                <a:xfrm>
                  <a:off x="4370040" y="4322880"/>
                  <a:ext cx="482040" cy="538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22"/>
                <p:cNvSpPr/>
                <p:nvPr/>
              </p:nvSpPr>
              <p:spPr>
                <a:xfrm flipV="1">
                  <a:off x="4370040" y="4573800"/>
                  <a:ext cx="481320" cy="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6" name="Line 23"/>
              <p:cNvSpPr/>
              <p:nvPr/>
            </p:nvSpPr>
            <p:spPr>
              <a:xfrm>
                <a:off x="4602960" y="4074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17" name="Line 24"/>
              <p:cNvSpPr/>
              <p:nvPr/>
            </p:nvSpPr>
            <p:spPr>
              <a:xfrm>
                <a:off x="4602960" y="4866840"/>
                <a:ext cx="180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193720" y="4074840"/>
              <a:ext cx="482040" cy="1046520"/>
              <a:chOff x="5193720" y="4074840"/>
              <a:chExt cx="482040" cy="1046520"/>
            </a:xfrm>
          </p:grpSpPr>
          <p:grpSp>
            <p:nvGrpSpPr>
              <p:cNvPr id="119" name="Group 26"/>
              <p:cNvGrpSpPr/>
              <p:nvPr/>
            </p:nvGrpSpPr>
            <p:grpSpPr>
              <a:xfrm>
                <a:off x="5193720" y="4326840"/>
                <a:ext cx="482040" cy="532080"/>
                <a:chOff x="5193720" y="4326840"/>
                <a:chExt cx="482040" cy="532080"/>
              </a:xfrm>
            </p:grpSpPr>
            <p:sp>
              <p:nvSpPr>
                <p:cNvPr id="120" name="Rectangle 27"/>
                <p:cNvSpPr/>
                <p:nvPr/>
              </p:nvSpPr>
              <p:spPr>
                <a:xfrm>
                  <a:off x="5193720" y="4326840"/>
                  <a:ext cx="482040" cy="53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28"/>
                <p:cNvSpPr/>
                <p:nvPr/>
              </p:nvSpPr>
              <p:spPr>
                <a:xfrm flipV="1">
                  <a:off x="5193720" y="4572360"/>
                  <a:ext cx="4813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2" name="Line 29"/>
              <p:cNvSpPr/>
              <p:nvPr/>
            </p:nvSpPr>
            <p:spPr>
              <a:xfrm>
                <a:off x="5426640" y="4074840"/>
                <a:ext cx="0" cy="25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23" name="Line 30"/>
              <p:cNvSpPr/>
              <p:nvPr/>
            </p:nvSpPr>
            <p:spPr>
              <a:xfrm>
                <a:off x="5426640" y="4865400"/>
                <a:ext cx="180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sp>
          <p:nvSpPr>
            <p:cNvPr id="124" name="Line 31"/>
            <p:cNvSpPr/>
            <p:nvPr/>
          </p:nvSpPr>
          <p:spPr>
            <a:xfrm flipV="1">
              <a:off x="2928960" y="4070160"/>
              <a:ext cx="2511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>
              <a:off x="4205520" y="3770640"/>
              <a:ext cx="144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6" name="Rectangle 33"/>
            <p:cNvSpPr/>
            <p:nvPr/>
          </p:nvSpPr>
          <p:spPr>
            <a:xfrm>
              <a:off x="3271320" y="5806800"/>
              <a:ext cx="19371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hared Memory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7" name="Line 34"/>
            <p:cNvSpPr/>
            <p:nvPr/>
          </p:nvSpPr>
          <p:spPr>
            <a:xfrm>
              <a:off x="4233960" y="55018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9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8D5A-B546-4811-9652-CC79894A328F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发读并发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RAM-CRCW(Common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仅允许写入相同数据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PRAM-CRCW(Priority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仅允许优先级最高的处理器写入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RAM-CRCW(Arbitrary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允许任意处理器自由写入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发读互斥写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互斥读互斥写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计算能力比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是最强的计算模型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倍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5"/>
              <p:cNvSpPr txBox="1"/>
              <p:nvPr/>
            </p:nvSpPr>
            <p:spPr>
              <a:xfrm>
                <a:off x="0" y="0"/>
                <a:ext cx="140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Rectangle 3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7"/>
              <p:cNvSpPr txBox="1"/>
              <p:nvPr/>
            </p:nvSpPr>
            <p:spPr>
              <a:xfrm>
                <a:off x="1536840" y="5229360"/>
                <a:ext cx="23875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9"/>
              <p:cNvSpPr txBox="1"/>
              <p:nvPr/>
            </p:nvSpPr>
            <p:spPr>
              <a:xfrm>
                <a:off x="1476360" y="5727600"/>
                <a:ext cx="42372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D279-948C-4E46-AD93-98B0B45B32B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适合并行算法表示和复杂性分析，易于使用，隐藏了并行机的通讯、同步等细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不适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并行机，忽略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竞争、通讯延迟等因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41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五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七章 并行算法常用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八章 并行算法一般设计过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异步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APRAM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B96-DFCD-4B1A-83B2-1CD7598605A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又称分相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-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每个处理器有其局部存储器、局部时钟、局部程序；无全局时钟，各处理器异步执行；处理器通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进行通讯；处理器间依赖关系，需在并行程序中显式地加入同步路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指令类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全局读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全局写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局部操作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同步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88B5-726C-4CC1-AF35-006D24A17ABC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56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同步障分开的全局相组成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5378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5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EFD-ED3C-4FA6-80B9-F31CB7DD232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计算时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设局部操作为单位时间；全局读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写平均时间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随着处理器数目的增加而增加；同步路障时间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=B(p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非降函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满足关系                    ；                             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令    为全局相内各处理器执行时间最长者，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的计算时间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易编程和分析算法的复杂度，但与现实相差较远，其上并行算法非常有限，也不适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-D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268360" y="2968560"/>
                <a:ext cx="1432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3862800" y="298368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10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924360" y="2978280"/>
                <a:ext cx="2170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6516720" y="2975040"/>
                <a:ext cx="16952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log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0"/>
              <p:cNvSpPr txBox="1"/>
              <p:nvPr/>
            </p:nvSpPr>
            <p:spPr>
              <a:xfrm>
                <a:off x="1403280" y="3284640"/>
                <a:ext cx="3081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2637000" y="3755880"/>
                <a:ext cx="2727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同步障次数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BSP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E694-418C-4330-86C3-892BFA0A85A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iant(1990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提出的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同步模型，是一种异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-D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模型，支持消息传递系统，块内异步并行，块间显式同步。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模型参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处理器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带有存储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同步障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arrier synchronization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带宽因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ime steps/packet)=1/bandwid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6BC4-8C54-44ED-AA45-0D155750748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449360"/>
            <a:ext cx="7923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若干超级步组成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每个超级步计算模式为左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强调了计算和通讯的分离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提供了一个编程环境，易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程序复杂性分析。但需要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式同步机制，限制至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消息的传递等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4838760" y="1628640"/>
          <a:ext cx="40543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1628640"/>
                    <a:ext cx="4054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logP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29E-6CB8-48ED-AF98-2B2C3697EB2A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ller(1993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年提出的，是一种分布存储的、点到点通讯的多处理机模型，其中通讯由一组参数描述，实行隐式同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模型参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p=1/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注：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反映了通讯网络的容量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8D8B-CB15-476B-957E-45304FFBD85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3360"/>
            <a:ext cx="8055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捕捉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C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通讯瓶颈，隐藏了并行机的网络拓扑、路由、协议，可以应用到共享存储、消息传递、数据并行的编程模型中；但难以进行算法描述、设计和分析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SP vs. Lo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块同步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子集同步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进程对同步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以常数因子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以对数因子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+Barriers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提供了更方便的程设环境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更好地利用了机器资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似乎更简单、方便和符合结构化编程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98B-A02D-423F-8A85-D2537A3F684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3360"/>
            <a:ext cx="8055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y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介绍陈国良老师的关于“三层并行计算模型”论文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并讨论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6(4.6),  5.7(4.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BF4-C290-4843-8337-8C0AFC060117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定义和分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并行算法的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：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并行算法：一些可同时执行的诸进程的集合，这些进程互相作用和协调动作从而达到给定问题的求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并行算法的分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数值计算和非数值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同步算法和异步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分布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确定算法和随机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8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3F6-8890-4990-BF81-DBF968302EC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表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描述语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可以使用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、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ca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描述语言中引入并行语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并行语句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-do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i=1 to n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all Pi, where 0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i≤k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AF1F-B70C-4FE5-8E39-4965E52E37F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复杂性度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串行算法的复杂性度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最坏情况下的复杂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orst-Case Complex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期望复杂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ected Complex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并行算法的几个复杂性度量指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运行时间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包含计算时间和通讯时间，分别用计算时间步和选路时间步作单位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问题实例的输入规模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处理器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并行算法成本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(n)=t(n)p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成本最优性：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(n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等于在最坏情形下串行算法所需要的时间，则并行算法是成本最优的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总运算量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算法求解问题时所完成的总的操作步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855-D046-4F7E-AEF3-4CA630DD6A2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复杂性度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n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(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某并行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运行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内所执行的运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量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使用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台处理器可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W(n)/p+T(n)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内执行完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揭示了并行算法工作量和运行时间的关系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提供了并行算法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T(Work-Tim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表示方法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告诉我们：设计并行算法时应尽可能将每个时间步的工作量均匀地分摊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台处理器，使各处理器处于活跃状态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5:54Z</dcterms:modified>
  <cp:revision>5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