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62E1-A8E9-47B0-BAE7-EB279C34B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33BF-41C3-4023-B854-2BCFFE129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FDBC-586D-4BF6-BF36-65AE0CFB6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C757-4E07-424A-A8A9-EE7641E0E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0ECB-5350-4FB1-A83D-243B4CA837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1406-69B3-4EA7-8604-FABCF983B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63AA-2069-4F34-AF6D-7B99C9E84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9CAB-5E3A-4C85-9D62-323923907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D356-2437-4F39-A37F-04D1F8EAA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195C-10FA-4301-B50F-ADE5D61ED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F52D-D7A4-497F-BE04-24BF27E3C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8663-7059-4088-9FA5-4FF979463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147-8BDE-48E2-A914-4314B1D1C009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域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的对象是数据，可以是算法的输入数据、中间处理数据和输出数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数据分解成大致相等的小数据片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时考虑数据上的相应操作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一个任务需要别的任务中的数据，则会产生任务间的通讯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BFB4-81FE-4478-B030-42B6BCFB8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域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850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三维网格的域分解，各格点上计算都是重复的。下图是三种分解方法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5640" y="2790720"/>
          <a:ext cx="7704000" cy="33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90720"/>
                    <a:ext cx="7704000" cy="33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D1F0-EB78-42CC-882F-9FD75D05E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域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0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规则区域的分解示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291312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76720" y="2525760"/>
            <a:ext cx="3456000" cy="3233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24360" y="3860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E615-7D58-42D8-8721-64041E281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0136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的对象是计算，将计算划分为不同的任务，其出发点不同于域分解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后，研究不同任务所需的数据。如果这些数据不相交的，则划分是成功的；如果数据有相当的重叠， 意味着要重新进行域分解和功能分解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是一种更深层次的分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328F-D4A6-470C-AE0B-7FF5507DEC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848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搜索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气候模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3280" y="1668600"/>
          <a:ext cx="29530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68600"/>
                    <a:ext cx="29530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456000" cy="22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0542-1A7A-4A33-BF97-264154F803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划分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是否保持映射和扩展的灵活性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是否避免了冗余计算和存储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任务尺寸是否大致相当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数与问题尺寸是否成比例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是一种更深层次的分解，是否合理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C6B2-5BE8-4F3B-B1CB-B891DC273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3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四种通讯模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通讯方法描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2440"/>
            <a:ext cx="8150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CA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计过程的重要阶段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产生的诸任务，一般不能完全独立执行，需要在任务间进行数据交流；从而产生了通讯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确定了诸任务之间的数据流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诸任务是并发执行的，通讯则限制了这种并发性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655A-5610-4D06-8333-85AC52BE3B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240" y="1166760"/>
            <a:ext cx="8204040" cy="42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二篇 并行算法的设计</a:t>
            </a:r>
            <a:br>
              <a:rPr sz="4400"/>
            </a:b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六章 并行算法基本设计策略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七章 并行算法常用设计技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八章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算法一般设计过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EE94-0EB2-410B-B1FE-295F90452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3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四种通讯模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四种通讯模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2400" y="1810800"/>
            <a:ext cx="6267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局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局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构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结构化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静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态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步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AE61-8732-4044-9A2B-4B8E8B4D2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局部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77120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限制在一个邻域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994120" y="2879640"/>
            <a:ext cx="2514600" cy="2133360"/>
            <a:chOff x="2994120" y="2879640"/>
            <a:chExt cx="2514600" cy="2133360"/>
          </a:xfrm>
        </p:grpSpPr>
        <p:sp>
          <p:nvSpPr>
            <p:cNvPr id="87" name=""/>
            <p:cNvSpPr/>
            <p:nvPr/>
          </p:nvSpPr>
          <p:spPr>
            <a:xfrm>
              <a:off x="4137120" y="37940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03800" y="379404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94120" y="37940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7120" y="47084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37120" y="28796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94120" y="287964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3800" y="470844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4120" y="470844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03800" y="287964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365720" y="3260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13080" y="31842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1680" y="387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41320" y="4022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3080" y="4098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365720" y="40986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450960" y="387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8680" y="4022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E395-B758-4B27-A72A-241254F042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局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120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非局部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ll to 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aster-Wor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292720" y="1916280"/>
            <a:ext cx="2133720" cy="2286000"/>
            <a:chOff x="5292720" y="1916280"/>
            <a:chExt cx="2133720" cy="2286000"/>
          </a:xfrm>
        </p:grpSpPr>
        <p:sp>
          <p:nvSpPr>
            <p:cNvPr id="107" name=""/>
            <p:cNvSpPr/>
            <p:nvPr/>
          </p:nvSpPr>
          <p:spPr>
            <a:xfrm>
              <a:off x="5292720" y="237348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2720" y="328788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83440" y="3821040"/>
              <a:ext cx="380880" cy="3812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45200" y="328788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45200" y="237348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07120" y="191628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673600" y="2296800"/>
              <a:ext cx="6098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749920" y="267768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9920" y="34401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3600" y="344016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97640" y="2754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49920" y="2296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9920" y="2602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7640" y="26780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97640" y="2754360"/>
              <a:ext cx="7617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12040" y="22971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5720" y="2373480"/>
              <a:ext cx="609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9400" y="2297160"/>
              <a:ext cx="763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1520" y="2754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664320" y="35164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588000" y="283068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95280" y="4267080"/>
            <a:ext cx="3962520" cy="1600200"/>
            <a:chOff x="1295280" y="4267080"/>
            <a:chExt cx="3962520" cy="1600200"/>
          </a:xfrm>
        </p:grpSpPr>
        <p:sp>
          <p:nvSpPr>
            <p:cNvPr id="129" name=""/>
            <p:cNvSpPr/>
            <p:nvPr/>
          </p:nvSpPr>
          <p:spPr>
            <a:xfrm>
              <a:off x="3048120" y="4267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548640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548640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548640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548640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548640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00200" y="464832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514600" y="47239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76720" y="4723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428640" y="4723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504960" y="457200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66400" y="4768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3600" y="4921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7400" y="50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200" y="4876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47480" y="4616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2C1F-91EB-456B-B028-D4B1ADFED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构化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77120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任务的通讯模式是相同的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否存在一个相同通讯模式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3068640"/>
            <a:ext cx="3379680" cy="2994120"/>
            <a:chOff x="1258920" y="3068640"/>
            <a:chExt cx="3379680" cy="2994120"/>
          </a:xfrm>
        </p:grpSpPr>
        <p:sp>
          <p:nvSpPr>
            <p:cNvPr id="148" name=""/>
            <p:cNvSpPr/>
            <p:nvPr/>
          </p:nvSpPr>
          <p:spPr>
            <a:xfrm>
              <a:off x="1917720" y="3646440"/>
              <a:ext cx="1746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30440" y="3646440"/>
              <a:ext cx="17604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58920" y="3646440"/>
              <a:ext cx="17604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17720" y="420048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7720" y="309096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8920" y="309096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0440" y="420048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8920" y="420048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0440" y="309096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47680" y="332244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60560" y="32767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3692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091960" y="37846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0560" y="38307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047680" y="3830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522440" y="3692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4960" y="378468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92320" y="4248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91960" y="43401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522440" y="4248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34960" y="434016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92320" y="3137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091960" y="3228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522440" y="3137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34960" y="322884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662200" y="332244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4720" y="32767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74720" y="38307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662200" y="3830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390680" y="332244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03200" y="32767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200" y="38307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390680" y="3830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49480" y="3624120"/>
              <a:ext cx="1746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62200" y="362412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90680" y="362412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49480" y="417816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49480" y="306864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90680" y="306864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2200" y="4178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90680" y="4178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62200" y="306864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979800" y="33001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92320" y="3254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080" y="3670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023720" y="3762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92320" y="38084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979800" y="38080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454200" y="3670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7080" y="376236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24080" y="4226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023720" y="4317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454200" y="4226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67080" y="431784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24080" y="3114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23720" y="32068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54200" y="3114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7080" y="320688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593960" y="33001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06840" y="3254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06840" y="38084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93960" y="38080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322440" y="33001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35320" y="3254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35320" y="38084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322440" y="38080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5560" y="42339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725200" y="43261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5560" y="37004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725200" y="3792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25560" y="315108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725200" y="32432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17720" y="5322960"/>
              <a:ext cx="17460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30440" y="5322960"/>
              <a:ext cx="17604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8920" y="5322960"/>
              <a:ext cx="17604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7720" y="587700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7720" y="476712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58920" y="476712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30440" y="587700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8920" y="587700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30440" y="476712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047680" y="499896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0560" y="49528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2320" y="5369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91960" y="5460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60560" y="55069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047680" y="550692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522440" y="5369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34960" y="546084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92320" y="5924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091960" y="60166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522440" y="5924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34960" y="601668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92320" y="4813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091960" y="4905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22440" y="4813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34960" y="490536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62200" y="499896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4720" y="49528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4720" y="55069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662200" y="550692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390680" y="499896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03200" y="49528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03200" y="55069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390680" y="550692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9480" y="5300640"/>
              <a:ext cx="1746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62200" y="530064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0680" y="530064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49480" y="585468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49480" y="474516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90680" y="4745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2200" y="585468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90680" y="585468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2200" y="4745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79800" y="49766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2320" y="4930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4080" y="5346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023720" y="54388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2320" y="5484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979800" y="5484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454200" y="5346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7080" y="543888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24080" y="5902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023720" y="5994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454200" y="5902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67080" y="599436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24080" y="47912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023720" y="48830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4200" y="47912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67080" y="488304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593960" y="49766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6840" y="4930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6840" y="5484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93960" y="5484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322440" y="49766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35320" y="4930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35320" y="5484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322440" y="5484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5560" y="59101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25200" y="60022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25560" y="53769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725200" y="54691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25560" y="48276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725200" y="49197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77840" y="43974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065320" y="43970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92360" y="43974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679480" y="43970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20840" y="43974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407960" y="43970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9960" y="437508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997080" y="4375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24120" y="437508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1600" y="4375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52600" y="437508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340080" y="4375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580000" y="3600360"/>
            <a:ext cx="2514600" cy="2133360"/>
            <a:chOff x="5580000" y="3600360"/>
            <a:chExt cx="2514600" cy="2133360"/>
          </a:xfrm>
        </p:grpSpPr>
        <p:sp>
          <p:nvSpPr>
            <p:cNvPr id="305" name=""/>
            <p:cNvSpPr/>
            <p:nvPr/>
          </p:nvSpPr>
          <p:spPr>
            <a:xfrm>
              <a:off x="6723000" y="45147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89680" y="451476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80000" y="45147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23000" y="54291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36003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80000" y="360036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89680" y="54291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42916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89680" y="36003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951600" y="3981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8960" y="39049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7560" y="4590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027200" y="4743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98960" y="4819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951600" y="48193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036840" y="4590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84560" y="47433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8FBB-9BBB-429A-AB7E-93F7FC82C1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结构化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131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一个统一的通讯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无结构化网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611600" y="1860480"/>
            <a:ext cx="3848040" cy="408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DC03-65A4-4057-83BF-473B12DCA4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四种通讯模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3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通讯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通讯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任务是否执行大致相当的通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否尽可能的局部通讯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操作是否能并行执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步任务的计算能否并行执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4213-AF5B-4939-BB46-9137748AC1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法描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是由抽象到具体的过程，是将组合的任务能在一类并行机上有效的执行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并小尺寸任务，减少任务数。如果任务数恰好等于处理器数，则也完成了映射过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增加任务的粒度和重复计算，可以减少通讯成本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保持映射和扩展的灵活性，降低软件工程成本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0268-E8FD-492E-9BC9-3A5A88F597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04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1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PCAM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方法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4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表面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484280"/>
            <a:ext cx="76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量与任务子集的表面成正比，计算量与任务子集的体积成正比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加重复计算有可能减少通讯量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835280" y="3141720"/>
          <a:ext cx="5298840" cy="31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141720"/>
                    <a:ext cx="529884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73C4-2116-491E-8FE8-C62CC28DCC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4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628640"/>
            <a:ext cx="803736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计算减少通讯量，但增加了计算量，应保持恰当的平衡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计算的目标应减少算法的总运算时间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2B99-4F9A-4B9D-8BD4-D311D83D87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2760" y="144936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二叉树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数的全和，要求每个处理器均保持全和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叉树上求全和，共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logN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通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6000" y="2708280"/>
          <a:ext cx="66009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08280"/>
                    <a:ext cx="66009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F02B-DDD7-4FD0-B523-74F7472C6A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2760" y="1268280"/>
            <a:ext cx="819288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（续）：使用重复计算，可以减少通信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式结构求和，共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logN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830240" y="2065320"/>
          <a:ext cx="54784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2065320"/>
                    <a:ext cx="54784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CC10-C802-4769-8418-4AC7928B99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4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组合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加粒度是否减少了通讯成本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计算是否已权衡了其得益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否保持了灵活性和可扩放性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的任务数是否与问题尺寸成比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否保持了类似的计算和通讯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没有减少并行执行的机会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FDE4-AAE8-4A12-9FB9-B44F1FC3B0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法描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326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任务要映射到具体的处理器，定位到运行机器上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数大于处理器数时，存在负载平衡和任务调度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的目标：减少算法的执行时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发的任务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的处理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之间存在高通讯的 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一处理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实际是一种权衡，属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P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完全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CE4E-C2E3-4EC9-B8C7-F140D7B96B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设计方法学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484280"/>
            <a:ext cx="84632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计并行算法的四个阶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Partitio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ommunic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gglomer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Mapp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成小的任务，开拓并发性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诸任务间的数据交换，检测划分的合理性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据任务的局部性，组合成更大的任务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每个任务分配到处理器上，提高算法的性能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FDCB-AFBC-4725-A090-3231A4F585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负载平衡算法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静态的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事先确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率的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机确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态的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期间动态负载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基于域分解的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对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局部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率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循环映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AC29-7D4F-4205-9A2F-3974C1897E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任务调度算法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99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放在集中的或分散的任务池中，使用任务调度算法将池中的任务分配给特定的处理器。下面是两种常用调度模式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雇员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集中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059280" y="3213000"/>
          <a:ext cx="501300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213000"/>
                    <a:ext cx="501300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83EB-BD68-49DB-8891-55942057E51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射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95240" y="1844280"/>
            <a:ext cx="7809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采用集中式负载平衡方案，是否存在通讯瓶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采用动态负载平衡方案，调度策略的成本如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1D27-F94F-4823-B724-EDDB51539E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04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6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小 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14280" y="1486080"/>
            <a:ext cx="7245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和功能分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间的数据交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的合并使得算法更有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任务分配到处理器，并保持负载平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781B-E5EF-4736-A007-33383C90CB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设计方法学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65360"/>
            <a:ext cx="82105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二阶段考虑并发性、可扩放性，寻求具有这些特性的并行算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即前期主要考虑如并发性等与机器无关的特性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四阶段，将注意力放在局部性及其它与性能有关的特性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即后期考虑与机器有关的特性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940E-C5D8-476D-B7F3-E8394B07B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设计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73360" y="1486080"/>
          <a:ext cx="37702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486080"/>
                    <a:ext cx="377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9325-87DC-4A30-9942-CAB7F1F99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划分方法描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150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分开拓算法的并发性和可扩放性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进行数据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称域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进行计算功能的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称功能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数据集和计算集互不相交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阶段忽略处理器数目和目标机器的体系结构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为两类划分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域分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main decompositio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ctional decompositio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EBD7-2F4F-4F22-83AE-B88E65E8AD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49:46Z</dcterms:modified>
  <cp:revision>39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