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7F0C-EBE0-48CF-8796-E505DC081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FF5D-E8D2-4772-B25F-3C845271E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B374-6BCA-4E6D-855E-2F88584F2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6C1B-0676-44E6-AFD3-77F875A69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1878-6478-451F-B949-749CD23C8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526A-CD46-4CCC-BBC0-2A6C1CC63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7F3C-8885-4AEA-B203-63BBB5111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4944-65B0-46F1-BC24-9A1E9A89D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4178-DA85-4137-A1FD-40D04DF5A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B334-D006-4ACC-A41E-6B28EE6EF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2775-8C92-4173-9D1F-34D5927CA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D530-E49E-4237-9B32-C38770781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A296-B45F-4D32-9DC5-650777A43FCF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直接求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2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奇偶规约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8200" y="685440"/>
            <a:ext cx="806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三对角方程组的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奇偶规约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求解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6908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奇偶规约求解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并行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对角方程可以写成如下形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i=1~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描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上下相邻方程消去偶序号方程中的奇下标变量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 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h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+1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2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乘上某个数消去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中的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-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2i+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乘上某个数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中的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h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+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变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β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η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i=1,2,…,n/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A16B-3260-46A7-A7E4-6CB227BE16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56944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终可得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se 1:                                                case 2:            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分别得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     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得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求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奇下标可以并行化；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③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求解可以并行化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8200" y="620280"/>
            <a:ext cx="806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三对角方程组的奇偶规约求解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107D-0FB5-40D7-AB45-1F039B5DA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回代的高斯消去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基本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过程分为消元和回代两个阶段，消元是将系数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为上三角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X=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回代求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过程中可以应用选主元方法，增加算法的数值稳定性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消元过程图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00360" y="3121200"/>
          <a:ext cx="56880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121200"/>
                    <a:ext cx="56880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DA1E-043A-484A-BD79-28DA7C8361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回代的高斯消去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和回代均可以并行化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主元也可以并行化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过程的并行化图示：处理器按行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60360" y="3141720"/>
          <a:ext cx="547236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141720"/>
                    <a:ext cx="547236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466A-C532-4A03-9B6E-498C335308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原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初等行变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,b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为主对角线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便起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,n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136520" y="2997360"/>
                <a:ext cx="70358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6945-14EF-40AD-B617-864D0B166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CREW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并行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n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些处理器排成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×(n+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矩阵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编号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i=1~n, k=1~n+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的并行化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     // O(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j=1 to n-1, eac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Par-do    //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消元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&lt;&gt;j):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— 0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&lt;&gt;j, k=j+1~n+1):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&lt;—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for eac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j=1~n) Par-do: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&lt;— 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,n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O(1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(n)=O(n), p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  c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本最优？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1574-1E0F-44DF-8CA1-7A62E94A0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0800" y="1268280"/>
            <a:ext cx="8269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本最优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的最优时间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已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:  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∴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逆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乘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(n/2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加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(n)=2i(n/2)+6m(n/2)+2a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n/2)=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4,   m(n/2)=O((n/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 2&lt;x&lt;2.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&gt; i(n)=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综上，串行算法的最优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2&lt;x&lt;2.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92360" y="2689200"/>
                <a:ext cx="72514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sSub>
                                        <m:e/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，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3179-C5E1-41E0-89C3-5CD10DC63A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十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迭代求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92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对某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定的误差允许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认为迭代是收敛的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每次迭代需要使用本次迭代的前面部分值，因而难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同步的并行算法，下面给出一个异步的并行算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47640" y="1884240"/>
                <a:ext cx="46706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6320" y="3429000"/>
                <a:ext cx="1963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B6C0-0447-42C8-B87E-F26A5F7CF3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迭代求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92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IMD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步并行算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≤n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成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进程计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一个分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成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&lt;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&gt;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until 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=1~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| 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-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|&lt;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A062-256E-4037-82DF-D06C72FCDC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7480" y="1539720"/>
            <a:ext cx="2400480" cy="319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1680" y="1539720"/>
            <a:ext cx="2399040" cy="319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824440" y="1539720"/>
            <a:ext cx="2347920" cy="319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1520" y="4665600"/>
            <a:ext cx="2558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sol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asymptotically quadra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411000" y="4665600"/>
            <a:ext cx="21492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rylov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spectrally adap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138360" y="4665600"/>
            <a:ext cx="1692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chwarz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onditio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paralleliz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58600"/>
            <a:ext cx="76118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Three VIPs for Iterative Metho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F438-3C96-4369-8A07-7CC76B3AD8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线性方程组的并行化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性方程组选择算法的考虑因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数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结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Gaussian elimination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ar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iterative met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substitution, odd-even re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PD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multigrid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精度要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ussian elimination:  more accurate, 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jugate gradients:  less accurate, less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环境要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, available languages, compiler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brari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B4B9-075B-44F4-817B-F1FCAD0ED2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线性方程组的并行化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方法的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解法的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稠密线性方程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括选主元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Jorda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LU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法的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稠密和稀疏线性方程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Jacob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Seidel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异步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Jacobi OverRelaxation(J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Seidel OverRelaxation(S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Conjugate Grad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A9D9-D99A-4008-B4F7-7CE7FF024C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稀疏线性方程组的迭代解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3008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解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74720" y="2284560"/>
                <a:ext cx="797400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cobi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us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idel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O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jug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di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2955-5E37-437B-9D46-1DFEE5F433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基本术语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上三角方程组的求解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DE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产生的稀疏线性方程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Laplace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2276640"/>
                <a:ext cx="6624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求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满足上面的方程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满足边值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1496880" y="3141720"/>
          <a:ext cx="530712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3141720"/>
                    <a:ext cx="530712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B37D-54DB-43A1-A109-93070460C8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五点格式的离散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g(x,y)=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55640" y="1957320"/>
                <a:ext cx="8024760" cy="44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记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用二阶中心差分逼近：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代入</m:t>
                        </m:r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  <m:r>
                          <m:rPr>
                            <m:lit/>
                            <m:nor/>
                          </m:rPr>
                          <m:t xml:space="preserve">方程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为单位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F66E-D65E-4C0F-BB38-75EAA0ED5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稀疏的块三对角矩阵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05440" cy="41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C426-584E-4D37-9185-DCCD22C069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8572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-Seidel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解法的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种串行算法的计算顺序及其并行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；顺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小规模并行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374760" y="2278080"/>
            <a:ext cx="9699480" cy="3456000"/>
            <a:chOff x="-374760" y="2278080"/>
            <a:chExt cx="9699480" cy="3456000"/>
          </a:xfrm>
        </p:grpSpPr>
        <p:graphicFrame>
          <p:nvGraphicFramePr>
            <p:cNvPr id="125" name=""/>
            <p:cNvGraphicFramePr/>
            <p:nvPr/>
          </p:nvGraphicFramePr>
          <p:xfrm>
            <a:off x="-374760" y="2278080"/>
            <a:ext cx="5915880" cy="34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74760" y="2278080"/>
                      <a:ext cx="5915880" cy="34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3408840" y="2278080"/>
            <a:ext cx="5915880" cy="345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08840" y="2278080"/>
                      <a:ext cx="5915880" cy="34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F7D7-5277-4507-99C8-32AC239480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黑着色并行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计算所有的红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计算所有的黑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至满足精度要求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3800" y="1557360"/>
          <a:ext cx="552420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57360"/>
                    <a:ext cx="552420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B7C0-8C0F-45B1-B821-CC6E30D7A4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基本术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性方程组的定义和符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…                    …               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为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=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05000"/>
            <a:ext cx="216000" cy="1371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04880" y="4365720"/>
                <a:ext cx="71071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68EE-8EF0-4EA0-9DD0-D99C3455C1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基本术语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上三角方程组的求解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上三角方程组的求解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三角方程组的回代解法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SISD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回代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i=n downto 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.1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.2)for j=1 to i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719600" y="4076280"/>
            <a:ext cx="287280" cy="15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5079960" y="4723920"/>
            <a:ext cx="11430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可并行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7E3A-8D08-4110-917B-E5C1F18C4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上三角方程组的求解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6338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三角方程组的回代解法并行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SIMD-CRE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并行回代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行循环带状划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i=n downto 1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where 1≤j≤p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j to i-1 step p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             // p(n)=n,  t(n)=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10160" y="2346480"/>
          <a:ext cx="4065480" cy="32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0160" y="2346480"/>
                    <a:ext cx="4065480" cy="32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D1CE-3C9D-437A-89FE-B27E7A554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2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直接求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奇偶规约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79640" y="2066760"/>
          <a:ext cx="975672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66760"/>
                    <a:ext cx="97567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三对角方程组的直接求解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562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：由于三对角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组的特殊性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次消元或一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，只涉及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一个方程，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7B43-E47C-41BA-87BC-68E5C621FE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0:48Z</dcterms:modified>
  <cp:revision>4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