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0903-A665-42F5-9865-5BB29FDF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091-D8CA-4453-8559-596C33D6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F945-07F5-4B5C-8D88-D71A0B09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1961-89DA-4520-8260-F827AC5E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958B-9687-48A6-B0CC-C7890C35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8881-7225-4CCF-B23D-B9635D03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CDA6-D91E-4977-BB5C-63EF3D05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A614-1404-42A5-AD42-A47BFD25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32F4-FF76-4D4B-8EBA-DB868BB6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AF4C-F154-44BD-8A68-85B46D6B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DA6C-E996-4E5C-B4F0-BB07CB81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F900-0AED-4E2C-B08F-471C928F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DEBE-423C-45EF-BC44-F24B9021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6301-75BA-4E96-8BC3-CEA6DE47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5584-662C-4B9B-A0F1-9F3D26CA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D358-6A34-4669-854D-2AEEEE3D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F4CD-8F36-444D-A500-136A8A50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08E7-199A-4F8F-93CC-B95AB43A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1123-70EF-469B-915F-6BB1EC4C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3EC9-5BAD-444A-ADB8-FA9E099F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79CB-9755-412D-B3C2-3231D917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DC6A-FDBA-4B75-B89F-63C33205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5C52-3FF3-4CFF-9CD4-A72D27BE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9FE6-474C-468A-BE20-C6C39B78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2AF6-D0E5-47BD-BC0A-113340AFCB6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40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52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40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52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640" y="32004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40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52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640" y="48816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760" y="488160"/>
              <a:ext cx="119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40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52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640" y="65592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40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520" y="824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640" y="82404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760" y="824040"/>
              <a:ext cx="1195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180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40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52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640" y="99180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40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520" y="11595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640" y="115956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400" y="132768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640" y="132768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7695-ABD2-47E2-814E-8879E16E5C5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4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520" y="32763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48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52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60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44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4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520" y="44114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Selected Topics in Parallel Algorithm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3581280"/>
            <a:ext cx="51055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徐  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中国科学技术大学计算机学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国家高性能计算中心（合肥）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014.0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@ahu.hef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artⅡ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ree Fundamental Approach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609480" y="14479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第二篇 并行算法的设计</a:t>
            </a:r>
            <a:br>
              <a:rPr sz="48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第五章 并行算法与并行计算模型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第六章 并行算法基本设计策略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art </a:t>
            </a: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Ⅲ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undamental Techniqu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76212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第二篇 并行算法的设计</a:t>
            </a:r>
            <a:br>
              <a:rPr sz="48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第七章 并行算法常用设计技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art </a:t>
            </a: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Ⅳ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PCAM Methodology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3352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第二篇 并行算法的设计</a:t>
            </a:r>
            <a:br>
              <a:rPr sz="4000"/>
            </a:b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   第八章 并行算法一般设计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art </a:t>
            </a: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Ⅴ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xamples: Numerical Parallel Alg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1752480"/>
            <a:ext cx="8534160" cy="32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第三篇 并行数值算法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第九章 稠密矩阵运算</a:t>
            </a: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Arial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第十章 线性方程组的求解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6105600" y="3824280"/>
          <a:ext cx="160812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05600" y="3824280"/>
                    <a:ext cx="160812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3" name=""/>
          <p:cNvGrpSpPr/>
          <p:nvPr/>
        </p:nvGrpSpPr>
        <p:grpSpPr>
          <a:xfrm>
            <a:off x="2286000" y="1523880"/>
            <a:ext cx="3511440" cy="3852720"/>
            <a:chOff x="2286000" y="1523880"/>
            <a:chExt cx="3511440" cy="3852720"/>
          </a:xfrm>
        </p:grpSpPr>
        <p:sp>
          <p:nvSpPr>
            <p:cNvPr id="184" name=""/>
            <p:cNvSpPr/>
            <p:nvPr/>
          </p:nvSpPr>
          <p:spPr>
            <a:xfrm>
              <a:off x="2560320" y="5000400"/>
              <a:ext cx="625320" cy="376200"/>
            </a:xfrm>
            <a:custGeom>
              <a:avLst/>
              <a:gdLst/>
              <a:ahLst/>
              <a:rect l="l" t="t" r="r" b="b"/>
              <a:pathLst>
                <a:path w="394" h="237">
                  <a:moveTo>
                    <a:pt x="252" y="0"/>
                  </a:moveTo>
                  <a:lnTo>
                    <a:pt x="51" y="20"/>
                  </a:lnTo>
                  <a:lnTo>
                    <a:pt x="31" y="36"/>
                  </a:lnTo>
                  <a:lnTo>
                    <a:pt x="19" y="54"/>
                  </a:lnTo>
                  <a:lnTo>
                    <a:pt x="8" y="74"/>
                  </a:lnTo>
                  <a:lnTo>
                    <a:pt x="0" y="107"/>
                  </a:lnTo>
                  <a:lnTo>
                    <a:pt x="1" y="144"/>
                  </a:lnTo>
                  <a:lnTo>
                    <a:pt x="8" y="164"/>
                  </a:lnTo>
                  <a:lnTo>
                    <a:pt x="19" y="187"/>
                  </a:lnTo>
                  <a:lnTo>
                    <a:pt x="40" y="206"/>
                  </a:lnTo>
                  <a:lnTo>
                    <a:pt x="65" y="221"/>
                  </a:lnTo>
                  <a:lnTo>
                    <a:pt x="90" y="230"/>
                  </a:lnTo>
                  <a:lnTo>
                    <a:pt x="112" y="235"/>
                  </a:lnTo>
                  <a:lnTo>
                    <a:pt x="141" y="237"/>
                  </a:lnTo>
                  <a:lnTo>
                    <a:pt x="138" y="235"/>
                  </a:lnTo>
                  <a:lnTo>
                    <a:pt x="295" y="219"/>
                  </a:lnTo>
                  <a:lnTo>
                    <a:pt x="394" y="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80808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86000" y="1523880"/>
              <a:ext cx="3511440" cy="3849840"/>
            </a:xfrm>
            <a:custGeom>
              <a:avLst/>
              <a:gdLst/>
              <a:ahLst/>
              <a:rect l="l" t="t" r="r" b="b"/>
              <a:pathLst>
                <a:path w="2212" h="2425">
                  <a:moveTo>
                    <a:pt x="139" y="5"/>
                  </a:moveTo>
                  <a:lnTo>
                    <a:pt x="124" y="9"/>
                  </a:lnTo>
                  <a:lnTo>
                    <a:pt x="103" y="19"/>
                  </a:lnTo>
                  <a:lnTo>
                    <a:pt x="79" y="42"/>
                  </a:lnTo>
                  <a:lnTo>
                    <a:pt x="46" y="74"/>
                  </a:lnTo>
                  <a:lnTo>
                    <a:pt x="23" y="109"/>
                  </a:lnTo>
                  <a:lnTo>
                    <a:pt x="10" y="146"/>
                  </a:lnTo>
                  <a:lnTo>
                    <a:pt x="4" y="178"/>
                  </a:lnTo>
                  <a:lnTo>
                    <a:pt x="0" y="221"/>
                  </a:lnTo>
                  <a:lnTo>
                    <a:pt x="0" y="262"/>
                  </a:lnTo>
                  <a:lnTo>
                    <a:pt x="5" y="297"/>
                  </a:lnTo>
                  <a:lnTo>
                    <a:pt x="10" y="332"/>
                  </a:lnTo>
                  <a:lnTo>
                    <a:pt x="16" y="364"/>
                  </a:lnTo>
                  <a:lnTo>
                    <a:pt x="39" y="446"/>
                  </a:lnTo>
                  <a:lnTo>
                    <a:pt x="70" y="538"/>
                  </a:lnTo>
                  <a:lnTo>
                    <a:pt x="117" y="639"/>
                  </a:lnTo>
                  <a:lnTo>
                    <a:pt x="164" y="754"/>
                  </a:lnTo>
                  <a:lnTo>
                    <a:pt x="211" y="854"/>
                  </a:lnTo>
                  <a:lnTo>
                    <a:pt x="251" y="955"/>
                  </a:lnTo>
                  <a:lnTo>
                    <a:pt x="298" y="1076"/>
                  </a:lnTo>
                  <a:lnTo>
                    <a:pt x="338" y="1230"/>
                  </a:lnTo>
                  <a:lnTo>
                    <a:pt x="365" y="1364"/>
                  </a:lnTo>
                  <a:lnTo>
                    <a:pt x="392" y="1532"/>
                  </a:lnTo>
                  <a:lnTo>
                    <a:pt x="405" y="1713"/>
                  </a:lnTo>
                  <a:lnTo>
                    <a:pt x="425" y="1874"/>
                  </a:lnTo>
                  <a:lnTo>
                    <a:pt x="425" y="1962"/>
                  </a:lnTo>
                  <a:lnTo>
                    <a:pt x="425" y="2076"/>
                  </a:lnTo>
                  <a:lnTo>
                    <a:pt x="425" y="2150"/>
                  </a:lnTo>
                  <a:lnTo>
                    <a:pt x="420" y="2219"/>
                  </a:lnTo>
                  <a:lnTo>
                    <a:pt x="399" y="2291"/>
                  </a:lnTo>
                  <a:lnTo>
                    <a:pt x="384" y="2333"/>
                  </a:lnTo>
                  <a:lnTo>
                    <a:pt x="365" y="2371"/>
                  </a:lnTo>
                  <a:lnTo>
                    <a:pt x="346" y="2396"/>
                  </a:lnTo>
                  <a:lnTo>
                    <a:pt x="333" y="2410"/>
                  </a:lnTo>
                  <a:lnTo>
                    <a:pt x="318" y="2425"/>
                  </a:lnTo>
                  <a:lnTo>
                    <a:pt x="515" y="2403"/>
                  </a:lnTo>
                  <a:lnTo>
                    <a:pt x="896" y="2351"/>
                  </a:lnTo>
                  <a:lnTo>
                    <a:pt x="1211" y="2311"/>
                  </a:lnTo>
                  <a:lnTo>
                    <a:pt x="1573" y="2270"/>
                  </a:lnTo>
                  <a:lnTo>
                    <a:pt x="1843" y="2257"/>
                  </a:lnTo>
                  <a:lnTo>
                    <a:pt x="2051" y="2264"/>
                  </a:lnTo>
                  <a:lnTo>
                    <a:pt x="2104" y="2264"/>
                  </a:lnTo>
                  <a:lnTo>
                    <a:pt x="2138" y="2257"/>
                  </a:lnTo>
                  <a:lnTo>
                    <a:pt x="2158" y="2223"/>
                  </a:lnTo>
                  <a:lnTo>
                    <a:pt x="2178" y="2187"/>
                  </a:lnTo>
                  <a:lnTo>
                    <a:pt x="2195" y="2132"/>
                  </a:lnTo>
                  <a:lnTo>
                    <a:pt x="2205" y="2066"/>
                  </a:lnTo>
                  <a:lnTo>
                    <a:pt x="2212" y="2002"/>
                  </a:lnTo>
                  <a:lnTo>
                    <a:pt x="2212" y="1909"/>
                  </a:lnTo>
                  <a:lnTo>
                    <a:pt x="2208" y="1837"/>
                  </a:lnTo>
                  <a:lnTo>
                    <a:pt x="2205" y="1719"/>
                  </a:lnTo>
                  <a:lnTo>
                    <a:pt x="2185" y="1592"/>
                  </a:lnTo>
                  <a:lnTo>
                    <a:pt x="2151" y="1428"/>
                  </a:lnTo>
                  <a:lnTo>
                    <a:pt x="2111" y="1277"/>
                  </a:lnTo>
                  <a:lnTo>
                    <a:pt x="2078" y="1143"/>
                  </a:lnTo>
                  <a:lnTo>
                    <a:pt x="2024" y="995"/>
                  </a:lnTo>
                  <a:lnTo>
                    <a:pt x="1970" y="861"/>
                  </a:lnTo>
                  <a:lnTo>
                    <a:pt x="1923" y="734"/>
                  </a:lnTo>
                  <a:lnTo>
                    <a:pt x="1850" y="551"/>
                  </a:lnTo>
                  <a:lnTo>
                    <a:pt x="1809" y="444"/>
                  </a:lnTo>
                  <a:lnTo>
                    <a:pt x="1785" y="373"/>
                  </a:lnTo>
                  <a:lnTo>
                    <a:pt x="1771" y="317"/>
                  </a:lnTo>
                  <a:lnTo>
                    <a:pt x="1766" y="264"/>
                  </a:lnTo>
                  <a:lnTo>
                    <a:pt x="1766" y="218"/>
                  </a:lnTo>
                  <a:lnTo>
                    <a:pt x="1796" y="55"/>
                  </a:lnTo>
                  <a:lnTo>
                    <a:pt x="1809" y="22"/>
                  </a:lnTo>
                  <a:lnTo>
                    <a:pt x="161" y="0"/>
                  </a:lnTo>
                  <a:lnTo>
                    <a:pt x="139" y="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69960" y="1700280"/>
              <a:ext cx="288360" cy="252360"/>
            </a:xfrm>
            <a:custGeom>
              <a:avLst/>
              <a:gdLst/>
              <a:ahLst/>
              <a:rect l="l" t="t" r="r" b="b"/>
              <a:pathLst>
                <a:path w="182" h="159">
                  <a:moveTo>
                    <a:pt x="182" y="11"/>
                  </a:moveTo>
                  <a:lnTo>
                    <a:pt x="135" y="145"/>
                  </a:lnTo>
                  <a:lnTo>
                    <a:pt x="88" y="159"/>
                  </a:lnTo>
                  <a:lnTo>
                    <a:pt x="65" y="156"/>
                  </a:lnTo>
                  <a:lnTo>
                    <a:pt x="41" y="148"/>
                  </a:lnTo>
                  <a:lnTo>
                    <a:pt x="23" y="132"/>
                  </a:lnTo>
                  <a:lnTo>
                    <a:pt x="11" y="116"/>
                  </a:lnTo>
                  <a:lnTo>
                    <a:pt x="3" y="96"/>
                  </a:lnTo>
                  <a:lnTo>
                    <a:pt x="0" y="78"/>
                  </a:lnTo>
                  <a:lnTo>
                    <a:pt x="1" y="55"/>
                  </a:lnTo>
                  <a:lnTo>
                    <a:pt x="8" y="38"/>
                  </a:lnTo>
                  <a:lnTo>
                    <a:pt x="21" y="25"/>
                  </a:lnTo>
                  <a:lnTo>
                    <a:pt x="38" y="13"/>
                  </a:lnTo>
                  <a:lnTo>
                    <a:pt x="58" y="8"/>
                  </a:lnTo>
                  <a:lnTo>
                    <a:pt x="75" y="4"/>
                  </a:lnTo>
                  <a:lnTo>
                    <a:pt x="94" y="1"/>
                  </a:lnTo>
                  <a:lnTo>
                    <a:pt x="108" y="1"/>
                  </a:lnTo>
                  <a:lnTo>
                    <a:pt x="127" y="0"/>
                  </a:lnTo>
                  <a:lnTo>
                    <a:pt x="182" y="11"/>
                  </a:lnTo>
                  <a:close/>
                </a:path>
              </a:pathLst>
            </a:custGeom>
            <a:solidFill>
              <a:srgbClr val="80808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80840" y="1685880"/>
              <a:ext cx="203040" cy="206280"/>
            </a:xfrm>
            <a:custGeom>
              <a:avLst/>
              <a:gdLst/>
              <a:ahLst/>
              <a:rect l="l" t="t" r="r" b="b"/>
              <a:pathLst>
                <a:path w="128" h="130">
                  <a:moveTo>
                    <a:pt x="0" y="16"/>
                  </a:moveTo>
                  <a:lnTo>
                    <a:pt x="24" y="32"/>
                  </a:lnTo>
                  <a:lnTo>
                    <a:pt x="35" y="49"/>
                  </a:lnTo>
                  <a:lnTo>
                    <a:pt x="40" y="66"/>
                  </a:lnTo>
                  <a:lnTo>
                    <a:pt x="42" y="91"/>
                  </a:lnTo>
                  <a:lnTo>
                    <a:pt x="37" y="111"/>
                  </a:lnTo>
                  <a:lnTo>
                    <a:pt x="24" y="130"/>
                  </a:lnTo>
                  <a:lnTo>
                    <a:pt x="128" y="107"/>
                  </a:lnTo>
                  <a:lnTo>
                    <a:pt x="119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23960" y="1525320"/>
              <a:ext cx="2941200" cy="427320"/>
            </a:xfrm>
            <a:custGeom>
              <a:avLst/>
              <a:gdLst/>
              <a:ahLst/>
              <a:rect l="l" t="t" r="r" b="b"/>
              <a:pathLst>
                <a:path w="1853" h="269">
                  <a:moveTo>
                    <a:pt x="1753" y="21"/>
                  </a:moveTo>
                  <a:lnTo>
                    <a:pt x="0" y="0"/>
                  </a:lnTo>
                  <a:lnTo>
                    <a:pt x="50" y="8"/>
                  </a:lnTo>
                  <a:lnTo>
                    <a:pt x="68" y="14"/>
                  </a:lnTo>
                  <a:lnTo>
                    <a:pt x="87" y="22"/>
                  </a:lnTo>
                  <a:lnTo>
                    <a:pt x="99" y="34"/>
                  </a:lnTo>
                  <a:lnTo>
                    <a:pt x="113" y="52"/>
                  </a:lnTo>
                  <a:lnTo>
                    <a:pt x="120" y="73"/>
                  </a:lnTo>
                  <a:lnTo>
                    <a:pt x="125" y="95"/>
                  </a:lnTo>
                  <a:lnTo>
                    <a:pt x="127" y="118"/>
                  </a:lnTo>
                  <a:lnTo>
                    <a:pt x="128" y="137"/>
                  </a:lnTo>
                  <a:lnTo>
                    <a:pt x="125" y="165"/>
                  </a:lnTo>
                  <a:lnTo>
                    <a:pt x="120" y="192"/>
                  </a:lnTo>
                  <a:lnTo>
                    <a:pt x="108" y="215"/>
                  </a:lnTo>
                  <a:lnTo>
                    <a:pt x="89" y="239"/>
                  </a:lnTo>
                  <a:lnTo>
                    <a:pt x="65" y="254"/>
                  </a:lnTo>
                  <a:lnTo>
                    <a:pt x="46" y="269"/>
                  </a:lnTo>
                  <a:lnTo>
                    <a:pt x="161" y="255"/>
                  </a:lnTo>
                  <a:lnTo>
                    <a:pt x="289" y="235"/>
                  </a:lnTo>
                  <a:lnTo>
                    <a:pt x="491" y="222"/>
                  </a:lnTo>
                  <a:lnTo>
                    <a:pt x="659" y="208"/>
                  </a:lnTo>
                  <a:lnTo>
                    <a:pt x="860" y="208"/>
                  </a:lnTo>
                  <a:lnTo>
                    <a:pt x="1081" y="215"/>
                  </a:lnTo>
                  <a:lnTo>
                    <a:pt x="1356" y="222"/>
                  </a:lnTo>
                  <a:lnTo>
                    <a:pt x="1619" y="242"/>
                  </a:lnTo>
                  <a:lnTo>
                    <a:pt x="1726" y="262"/>
                  </a:lnTo>
                  <a:lnTo>
                    <a:pt x="1757" y="266"/>
                  </a:lnTo>
                  <a:lnTo>
                    <a:pt x="1790" y="268"/>
                  </a:lnTo>
                  <a:lnTo>
                    <a:pt x="1814" y="262"/>
                  </a:lnTo>
                  <a:lnTo>
                    <a:pt x="1834" y="242"/>
                  </a:lnTo>
                  <a:lnTo>
                    <a:pt x="1845" y="217"/>
                  </a:lnTo>
                  <a:lnTo>
                    <a:pt x="1850" y="196"/>
                  </a:lnTo>
                  <a:lnTo>
                    <a:pt x="1853" y="173"/>
                  </a:lnTo>
                  <a:lnTo>
                    <a:pt x="1848" y="130"/>
                  </a:lnTo>
                  <a:lnTo>
                    <a:pt x="1839" y="103"/>
                  </a:lnTo>
                  <a:lnTo>
                    <a:pt x="1826" y="75"/>
                  </a:lnTo>
                  <a:lnTo>
                    <a:pt x="1814" y="57"/>
                  </a:lnTo>
                  <a:lnTo>
                    <a:pt x="1799" y="43"/>
                  </a:lnTo>
                  <a:lnTo>
                    <a:pt x="1778" y="28"/>
                  </a:lnTo>
                  <a:lnTo>
                    <a:pt x="1753" y="21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 txBox="1"/>
          <p:nvPr/>
        </p:nvSpPr>
        <p:spPr>
          <a:xfrm rot="21336000">
            <a:off x="3068640" y="2948040"/>
            <a:ext cx="2076480" cy="371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ush Script MT"/>
              </a:rPr>
              <a:t>Thank you for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ush Script MT"/>
              <a:ea typeface="Brus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ush Script MT"/>
              </a:rPr>
              <a:t>your listening 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ush Script MT"/>
              <a:ea typeface="Brush Script MT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952880" y="3733920"/>
          <a:ext cx="54288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3733920"/>
                    <a:ext cx="5428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 txBox="1"/>
          <p:nvPr/>
        </p:nvSpPr>
        <p:spPr>
          <a:xfrm rot="21267600">
            <a:off x="3581280" y="4038480"/>
            <a:ext cx="1295640" cy="295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ush Script MT"/>
              </a:rPr>
              <a:t>Qeustion?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ush Script MT"/>
              <a:ea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330066"/>
                </a:solidFill>
                <a:latin typeface="Arial"/>
                <a:ea typeface="华文行楷"/>
              </a:rPr>
              <a:t>Selected Topics</a:t>
            </a:r>
            <a:endParaRPr b="1" lang="en-US" sz="4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79246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Ⅰ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400" spc="-1" strike="noStrike" u="sng">
                <a:solidFill>
                  <a:srgbClr val="ff3300"/>
                </a:solidFill>
                <a:uFillTx/>
                <a:latin typeface="Arial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. Three Fundamental Approach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. Fundamental Technique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Ⅳ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. PCAM Methodolog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Ⅴ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: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Numerical Parallel Al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7524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61400" y="152280"/>
            <a:ext cx="0" cy="59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tⅠ Introduction (1/7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计算机学科是一门新兴学科，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年间不断发展变化着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并行计算是发展过程中的重要里程碑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如：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NCC’1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中国计算机大会）的特邀报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tⅠ Introduction (2/7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707680" cy="3909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888160" y="2666880"/>
            <a:ext cx="28144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tⅠ Introduction (3/7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55820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tⅠ Introduction (4/7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1536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实际上，并行算法是并行计算的核心和关键。如图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152280"/>
          <a:ext cx="891540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89154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tⅠ Introduction (5/7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本人理解并行算法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串行软件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算法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数据结构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文档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并行软件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并行算法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并行数据结构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文档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计算机体系结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本模块重点介绍并行算法中的一些方法和思想，选择一些章节来讲解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3124080"/>
            <a:ext cx="990720" cy="1219320"/>
          </a:xfrm>
          <a:prstGeom prst="downArrow">
            <a:avLst>
              <a:gd name="adj1" fmla="val 50000"/>
              <a:gd name="adj2" fmla="val 3076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跨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第二篇 并行算法的设计</a:t>
            </a:r>
            <a:br>
              <a:rPr sz="48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第五章 并行算法与并行计算模型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第六章 并行算法基本设计策略</a:t>
            </a:r>
            <a:br>
              <a:rPr sz="4000"/>
            </a:b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   第七章 并行算法常用设计技术</a:t>
            </a:r>
            <a:br>
              <a:rPr sz="4000"/>
            </a:b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   第八章 并行算法一般设计过程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tⅠ Introduction (6/7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tⅠ Introduction (7/7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1600200"/>
            <a:ext cx="8534520" cy="42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第三篇 并行数值算法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第九章 稠密矩阵运算</a:t>
            </a: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Arial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第十章 线性方程组的求解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第十一章 快速傅里叶变换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第十二章 数值计算的基本支撑技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walkinnet</cp:lastModifiedBy>
  <dcterms:modified xsi:type="dcterms:W3CDTF">2014-07-18T02:15:23Z</dcterms:modified>
  <cp:revision>1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  <property fmtid="{D5CDD505-2E9C-101B-9397-08002B2CF9AE}" pid="3" name="Version">
    <vt:r8>1</vt:r8>
  </property>
</Properties>
</file>