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2F04-4BF0-424C-8BA2-49EB5F1E0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9F3C0-F24D-46B1-8596-B0D0F92C9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C2B03-0913-4D27-AFEE-9A643BD79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67F86-4EF9-4A0C-8C0B-24BBBC5276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5699E-6E70-42E5-A3DF-D2C002E2CD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2A0F4-835D-48F3-BC22-43E714729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28A57-EE1B-41B5-A8B8-7E48F9CD3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01DFF-0F2C-451D-A0B1-50E2EC7F6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DA6E-F63D-4773-AAC2-EC4C98DFD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FF8CC-644A-435D-A0EB-675758D5A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44AFC-2BDB-4BC4-8B60-878E183CA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A412-3869-4D55-A86B-A72C78FEC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40DB-F64B-4487-BEE6-4F7EF488415F}" type="slidenum">
              <a:rPr b="0" lang="zh-CN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并行计算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Compu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52880"/>
            <a:ext cx="665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讲人   徐 云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mer, 20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串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递归算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9640" y="1268280"/>
                <a:ext cx="3672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奇数时： {</m:t>
                        </m:r>
                        <m:r>
                          <m:t xml:space="preserve">b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-324000" y="1989000"/>
                <a:ext cx="6480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-396720" y="3027240"/>
                <a:ext cx="66243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ω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ω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⋯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-322200" y="4178160"/>
                <a:ext cx="92869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l</m:t>
                        </m:r>
                      </m:sup>
                    </m:sSup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sSup>
                      <m:e>
                        <m:r>
                          <m:t xml:space="preserve">ω</m:t>
                        </m:r>
                      </m:e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-324000" y="4653000"/>
                <a:ext cx="9217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</m:sup>
                    </m:sSup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  <m:sup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sSup>
                      <m:e>
                        <m:r>
                          <m:t xml:space="preserve">ω</m:t>
                        </m:r>
                      </m:e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-324000" y="5075280"/>
                <a:ext cx="91472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p>
                            <m:r>
                              <m:t xml:space="preserve">kl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11280" y="5877000"/>
                <a:ext cx="80661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此，向量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是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的</m:t>
                    </m:r>
                    <m:r>
                      <m:rPr>
                        <m:lit/>
                        <m:nor/>
                      </m:rPr>
                      <m:t xml:space="preserve">DF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5CF9A-BC9D-4EA3-810E-ED73CF00AE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串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递归算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78080"/>
            <a:ext cx="8354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蝶式递归计算图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计算原理推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7800" y="1844640"/>
          <a:ext cx="67485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1844640"/>
                    <a:ext cx="67485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7492F-8EA0-4DC1-A996-7CAB8E2169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串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递归算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1521000"/>
            <a:ext cx="8354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特别地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n=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蝶式计算图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展开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93600" y="2060640"/>
          <a:ext cx="6602760" cy="40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2060640"/>
                    <a:ext cx="6602760" cy="40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10D72-5385-4350-916B-71094C5381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串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递归算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SD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治递归算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输入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A=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;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输出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B=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…,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rocedure RFFT(A, 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if n=1 then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el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RFFT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-2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…,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/2-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RFFT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…,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/2-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z=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4)for j=0 to n-1 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4.1)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 mod n/2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+z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 mod n/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4.2)z=zω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注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(1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时间复杂度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t(n)=2t(n/2)+O(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if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得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t(n)=O(nlog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原理？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15E6E-940A-47B4-ABA4-589BCEED37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一章 快速傅里叶变换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快速傅里叶变换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1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离散傅里叶变换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DFT)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2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DFT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顺序代码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3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串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递归算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1.1.4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串行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FFT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非递归算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2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串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非递归算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蝶式计算示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55640" y="1916280"/>
                <a:ext cx="7813800" cy="427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当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时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当n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时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＝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6</m:t>
                                      </m:r>
                                    </m:sup>
                                  </m:sSup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6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9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ω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对调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和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，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＝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－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－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－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－</m:t>
                                  </m:r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12273-F28C-4C6D-945A-D618D677FF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串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非递归算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蝶式计算流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76160" y="2441520"/>
          <a:ext cx="7540920" cy="24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2441520"/>
                    <a:ext cx="7540920" cy="24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7E035-671D-497C-915E-01BFC80F81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042920" y="-415800"/>
          <a:ext cx="7201080" cy="60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-415800"/>
                    <a:ext cx="720108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串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非递归算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8135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[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-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]-[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-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]ω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注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①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行线结点处的权因子的确定问题；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②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下标确定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取行号的位序反。如，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: 3=(011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=&gt;(110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6, ==&gt;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输出为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AB4C0-1801-4841-95A3-A4095CFD3D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串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非递归算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496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.1(P295):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SD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迭代算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输入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A=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…,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;  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输出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B=(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…,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for k=0 to n-1 do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endfor       //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初始化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for h=logn-1 to 0 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for k=0 to n-1 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.1)p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(2.2)q=n/p     (2.3)z=ω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q/2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出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z=ω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后每次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z=z×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.4)if ( k mod p = k mod 2p) then          //(i)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i)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时执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)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+p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i)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+p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z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k mod 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for k=0 to n-1 do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(k)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endfor                 //r(k)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位序反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时间复杂度：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T(n)=O(nlog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5940360" y="1987560"/>
            <a:ext cx="273528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66"/>
                </a:solidFill>
                <a:latin typeface="Comic Sans MS"/>
                <a:ea typeface="华文新魏"/>
              </a:rPr>
              <a:t>如：</a:t>
            </a: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n=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h=2, p=4, q=2, z=ω</a:t>
            </a:r>
            <a:r>
              <a:rPr b="1" lang="en-US" sz="1600" spc="-1" strike="noStrike" baseline="30000">
                <a:solidFill>
                  <a:srgbClr val="cc0066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h=1, p=2, q=4, z=ω</a:t>
            </a:r>
            <a:r>
              <a:rPr b="1" lang="en-US" sz="1600" spc="-1" strike="noStrike" baseline="30000">
                <a:solidFill>
                  <a:srgbClr val="cc0066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h=0, p=1, q=8, z=ω</a:t>
            </a:r>
            <a:r>
              <a:rPr b="1" lang="en-US" sz="1600" spc="-1" strike="noStrike" baseline="30000">
                <a:solidFill>
                  <a:srgbClr val="cc0066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89C35-B040-4E49-889A-39DBF89D4C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一章 快速傅里叶变换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快速傅里叶变换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2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1.2.1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SIMD-MC</a:t>
            </a:r>
            <a:r>
              <a:rPr b="0" lang="en-US" sz="3600" spc="-1" strike="noStrike" u="sng" baseline="30000">
                <a:solidFill>
                  <a:srgbClr val="ff0000"/>
                </a:solidFill>
                <a:uFillTx/>
                <a:latin typeface="华文新魏"/>
                <a:ea typeface="华文新魏"/>
              </a:rPr>
              <a:t>2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上的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FFT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算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2.2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BF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0611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三篇 并行数值算法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第十一章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快速傅里叶变换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第十二章 数值计算的基本支撑技术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M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描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处理器组成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1/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方阵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理器以行主序编号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333520" y="2421000"/>
          <a:ext cx="350856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3520" y="2421000"/>
                    <a:ext cx="350856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16F4-3AF1-421A-914E-AB70980585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M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4294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.3(P299):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输入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于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;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输出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于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for k=0 to n-1 par-do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end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for h=logn-1 to 0 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for k=0 to n-1 par-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.1)p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(2.2)q=n/p     (2.3)z=ω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p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出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ω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n/2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后每次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z=z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.4)if ( k mod p = k mod 2p) then par-do  //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满足条件的处理器同时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)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+p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z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r(k)modq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//(i)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i)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时执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i)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+p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z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r(k)mod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for k=0 to n-1 par-do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(k)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endfor                 //r(k)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位序反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1752480"/>
            <a:ext cx="2735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66"/>
                </a:solidFill>
                <a:latin typeface="Comic Sans MS"/>
                <a:ea typeface="华文新魏"/>
              </a:rPr>
              <a:t>如：</a:t>
            </a: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n=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h=3, p=8, q=2, z=ω</a:t>
            </a:r>
            <a:r>
              <a:rPr b="1" lang="en-US" sz="1600" spc="-1" strike="noStrike" baseline="30000">
                <a:solidFill>
                  <a:srgbClr val="cc0066"/>
                </a:solidFill>
                <a:latin typeface="Comic Sans MS"/>
              </a:rPr>
              <a:t>8</a:t>
            </a: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h=2, p=4, q=4, z=ω</a:t>
            </a:r>
            <a:r>
              <a:rPr b="1" lang="en-US" sz="1600" spc="-1" strike="noStrike" baseline="30000">
                <a:solidFill>
                  <a:srgbClr val="cc0066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h=1, p=2, q=8, z=ω</a:t>
            </a:r>
            <a:r>
              <a:rPr b="1" lang="en-US" sz="1600" spc="-1" strike="noStrike" baseline="30000">
                <a:solidFill>
                  <a:srgbClr val="cc0066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h=0, p=1, q=16,z=ω</a:t>
            </a:r>
            <a:r>
              <a:rPr b="1" lang="en-US" sz="1600" spc="-1" strike="noStrike" baseline="30000">
                <a:solidFill>
                  <a:srgbClr val="cc0066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32A4D-D680-4393-BCD8-F78D853BC5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M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30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.5, n=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79440" y="2878200"/>
          <a:ext cx="6388200" cy="25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878200"/>
                    <a:ext cx="6388200" cy="25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6D11-4513-4881-BAF0-0B8B06DC05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M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迭代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h=1): p=2, q=2, z=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满足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 mod 2 = k mod 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处理器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时计算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+(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+(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(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(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26920" y="3789360"/>
          <a:ext cx="712980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789360"/>
                    <a:ext cx="712980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9D98-A247-4454-9606-A614DDF1A9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M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15640" y="1484280"/>
            <a:ext cx="88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迭代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h=0): p=1, q=4, z=ω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满足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k mod 1 = k mod 2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处理器为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时计算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ω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+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ω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+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ω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ω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-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ω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+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ω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16000" y="3429000"/>
          <a:ext cx="7018200" cy="28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429000"/>
                    <a:ext cx="7018200" cy="28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C94A-3DC9-4A37-B1FD-D5BD5F70DCB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M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0720" y="1484280"/>
            <a:ext cx="8099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分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时间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comp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O(log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路时间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outing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涉及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.4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.4): 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:  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综上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较大时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(n)=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0E74-F99C-4154-AC9F-C7EB940691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一章 快速傅里叶变换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快速傅里叶变换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2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2.1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M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1.2.2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SIMD-BF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上的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FFT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算法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BF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9001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蝶形网络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理器布局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+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层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层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n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处理器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共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n(1+logn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处理器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的处理器记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,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i=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互连方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上层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-1,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-1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连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仅在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不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权因子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ω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F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网络中的计算方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,i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ω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指数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j=expr(r,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expr(r,i)=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0,…,0)   //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前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取位序反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后补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-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4196520" y="5142960"/>
            <a:ext cx="177840" cy="715680"/>
          </a:xfrm>
          <a:custGeom>
            <a:avLst/>
            <a:gdLst>
              <a:gd name="textAreaLeft" fmla="*/ 113760 w 177840"/>
              <a:gd name="textAreaRight" fmla="*/ 177840 w 177840"/>
              <a:gd name="textAreaTop" fmla="*/ 18360 h 715680"/>
              <a:gd name="textAreaBottom" fmla="*/ 697320 h 71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68"/>
                </a:lnTo>
                <a:cubicBezTo>
                  <a:pt x="10800" y="10268"/>
                  <a:pt x="5400" y="11168"/>
                  <a:pt x="0" y="11168"/>
                </a:cubicBezTo>
                <a:cubicBezTo>
                  <a:pt x="5400" y="11168"/>
                  <a:pt x="10800" y="12068"/>
                  <a:pt x="10800" y="1296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8C7D-531B-4792-ACCD-B1F1181956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BF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0992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n=8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F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网络表示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上层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-1,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-1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连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仅在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不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82560" y="1557360"/>
          <a:ext cx="8677440" cy="43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2560" y="1557360"/>
                    <a:ext cx="8677440" cy="43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FE089-5434-4296-BD10-4690D31181E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BF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099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描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P30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.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分析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分析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时间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O(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.1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.2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计算时间为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O(1),  (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定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ω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expr(r,i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计算好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.1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.2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选路时间为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O(1)     ==&gt;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时间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O(log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t(n)=O(logn), p(n)=n(1+logn), c(n)=O(nlo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n)=O(n)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n)=O(1/logn)      //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算法的综合指标较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expr(r,i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计算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初始时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,i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入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ω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expr(k,i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k=lo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+1,i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有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ω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expr(r+1,i)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,i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的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ω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expr(r,i)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ω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expr(r+1,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过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logn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就可以计算出每个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ω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expr(r,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08135-D305-4758-B935-14DB6E45D6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一章 快速傅里叶变换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快速傅里叶变换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1.1.1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离散傅里叶变换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(DFT)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2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DFT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顺序代码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3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串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递归算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4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串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非递归算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2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离散傅里叶变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DFT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1449360"/>
            <a:ext cx="835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定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给定向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A=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华文新魏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DFT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变换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B=(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…,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华文新魏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258920" y="2492280"/>
                <a:ext cx="6553080" cy="30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即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这里</m:t>
                        </m:r>
                        <m:r>
                          <m:t xml:space="preserve">ω</m:t>
                        </m:r>
                        <m:r>
                          <m:t xml:space="preserve">＝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i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  <m:r>
                          <m:t xml:space="preserve">为n</m:t>
                        </m:r>
                        <m:r>
                          <m:rPr>
                            <m:lit/>
                            <m:nor/>
                          </m:rPr>
                          <m:t xml:space="preserve">次单位元根，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写成矩阵形式为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6870F-7798-4134-895F-A434E97044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一章 快速傅里叶变换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快速傅里叶变换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1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离散傅里叶变换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DFT)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1.1.2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DFT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的顺序代码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3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串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递归算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4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串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非递归算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2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FT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的顺序代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1449000"/>
            <a:ext cx="403236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代码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for j=0 to n-1 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b[j]=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for k=0 to n-1 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b[j]=b[j]+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华文新魏"/>
              </a:rPr>
              <a:t>k*j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a[k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注：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代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需要计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华文新魏"/>
              </a:rPr>
              <a:t>k*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代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的复杂度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华文新魏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484280"/>
            <a:ext cx="4032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代码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=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j=0 to n-1 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[j]=0, s=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k=0 to n-1 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[j]=b[j]+s*a[k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=s*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=w*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B1C60-400B-4677-9B0B-E7AA03BA4B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一章 快速傅里叶变换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快速傅里叶变换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1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离散傅里叶变换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DFT)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2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DFT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顺序代码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1.1.3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串行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FFT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递归算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4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串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非递归算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2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串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递归算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354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蝶式递归计算原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令                      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n/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单位元根，则有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向量的偶数项                    和奇数项                   分别记为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注意推导中反复使用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95560" y="1881360"/>
                <a:ext cx="17208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＝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i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981760" y="1881360"/>
                <a:ext cx="10335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＝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823000" y="2384280"/>
                <a:ext cx="1630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890640" y="2800440"/>
                <a:ext cx="1738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771640" y="2825640"/>
                <a:ext cx="17258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564000" y="3240000"/>
                <a:ext cx="46371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2" name=""/>
          <p:cNvGraphicFramePr/>
          <p:nvPr/>
        </p:nvGraphicFramePr>
        <p:xfrm>
          <a:off x="1476360" y="3602160"/>
          <a:ext cx="43927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602160"/>
                    <a:ext cx="43927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147840" y="2384280"/>
                <a:ext cx="1667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3CCC7-99E2-418C-819A-48EC28461D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串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递归算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11280" y="1268280"/>
                <a:ext cx="35290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偶数时： {</m:t>
                        </m:r>
                        <m:r>
                          <m:t xml:space="preserve">b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82560" y="2060640"/>
                <a:ext cx="59770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4360" y="3193920"/>
                <a:ext cx="626580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4360" y="4226040"/>
                <a:ext cx="604980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p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11280" y="5119560"/>
                <a:ext cx="77770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p>
                            <m:r>
                              <m:t xml:space="preserve">k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755640" y="5937120"/>
                <a:ext cx="766764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此，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向量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是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的</m:t>
                    </m:r>
                    <m:r>
                      <m:rPr>
                        <m:lit/>
                        <m:nor/>
                      </m:rPr>
                      <m:t xml:space="preserve">DF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56243-5109-437F-A749-D58618134D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7T01:26:01Z</dcterms:created>
  <dc:creator>Xu Yun</dc:creator>
  <dc:description/>
  <dc:language>en-US</dc:language>
  <cp:lastModifiedBy>walkinnet</cp:lastModifiedBy>
  <dcterms:modified xsi:type="dcterms:W3CDTF">2014-07-16T07:51:46Z</dcterms:modified>
  <cp:revision>37</cp:revision>
  <dc:subject/>
  <dc:title>并行计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